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6.gif" ContentType="image/gif"/>
  <Override PartName="/ppt/media/image9.png" ContentType="image/png"/>
  <Override PartName="/ppt/media/image16.jpeg" ContentType="image/jpeg"/>
  <Override PartName="/ppt/media/image13.gif" ContentType="image/gif"/>
  <Override PartName="/ppt/media/image30.gif" ContentType="image/gif"/>
  <Override PartName="/ppt/media/image31.png" ContentType="image/png"/>
  <Override PartName="/ppt/media/image12.jpeg" ContentType="image/jpeg"/>
  <Override PartName="/ppt/media/image4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10.jpeg" ContentType="image/jpeg"/>
  <Override PartName="/ppt/media/image21.gif" ContentType="image/gif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9CC-2515-406B-B7AD-C01F1CA0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2A4-5D12-41C3-B1A4-35BA3E4D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93C-7921-4257-B6DD-0767E865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D94-0666-4C3B-A4AD-5EE34A29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EEA-F37C-4DFC-B1CF-1D4BBF50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224-FB18-400D-AE56-8DF922FC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C23-A041-4CC1-B2AB-1349D5E4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81F-F0A3-41C6-A2C7-5886286D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E0B-84C1-4967-BE84-B1E40E4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BCE-4687-4746-B697-ED87622B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E31-CA1E-405E-BE7C-156F0AA4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F3D-000A-43D3-94FA-F47A0C2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1752-A64B-472A-90AB-9D726F468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a/CzerwonySzlakTurystyczny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a/CzerwonySzlakTurystyczny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86040" y="2428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900" spc="-1" strike="noStrike">
                <a:solidFill>
                  <a:srgbClr val="ff0000"/>
                </a:solidFill>
                <a:latin typeface="Calibri"/>
              </a:rPr>
              <a:t>Szlaki turystyczne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beskid-makowski.pl/muwit/foto/szlakowskaz.gif"/>
          <p:cNvPicPr/>
          <p:nvPr/>
        </p:nvPicPr>
        <p:blipFill>
          <a:blip r:embed="rId2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ymbol zastępczy zawartości 3" descr="13454302[1].jpg"/>
          <p:cNvPicPr/>
          <p:nvPr/>
        </p:nvPicPr>
        <p:blipFill>
          <a:blip r:embed="rId1"/>
          <a:stretch/>
        </p:blipFill>
        <p:spPr>
          <a:xfrm>
            <a:off x="1643040" y="214200"/>
            <a:ext cx="60008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ymbol zastępczy zawartości 3" descr="Szczyt_Leskowca-zima'06[1].JPG"/>
          <p:cNvPicPr/>
          <p:nvPr/>
        </p:nvPicPr>
        <p:blipFill>
          <a:blip r:embed="rId1"/>
          <a:stretch/>
        </p:blipFill>
        <p:spPr>
          <a:xfrm>
            <a:off x="2214720" y="214200"/>
            <a:ext cx="4786200" cy="6381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3480" y="5429160"/>
            <a:ext cx="1685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szlakowskaz„rogacz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img.epuls.pl/klubowe/1512/1512952_l/user/gory.gif.gif"/>
          <p:cNvPicPr/>
          <p:nvPr/>
        </p:nvPicPr>
        <p:blipFill>
          <a:blip r:embed="rId2"/>
          <a:stretch/>
        </p:blipFill>
        <p:spPr>
          <a:xfrm>
            <a:off x="285840" y="5214960"/>
            <a:ext cx="17143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nane szlaki piesze w Beskid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107172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łówny Szlak Beskidzki imienia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azimierza Sosnowskieg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(GSB)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szlak  turystyczny znakowany kolor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erwonym biegnący od Ustronia w Beskidzie Śląskim do Wołosatego w Bieszczad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ajdłuższy szlak w polskich górach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liczy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519 km długoś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przebiega przez Beskid Śląski, Beskid Żywiecki, Gorce, Beskid Sądecki,  Beskid Niski oraz Bieszcza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Plik:CzerwonySzlakTurystyczn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071720"/>
            <a:ext cx="1357200" cy="101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stronka-agusi.pl/obrazki/1_gory.gif"/>
          <p:cNvPicPr/>
          <p:nvPr/>
        </p:nvPicPr>
        <p:blipFill>
          <a:blip r:embed="rId3"/>
          <a:stretch/>
        </p:blipFill>
        <p:spPr>
          <a:xfrm>
            <a:off x="7572240" y="4643280"/>
            <a:ext cx="11430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nane szlaki piesze w Beskid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07172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ły Szlak Beskidzki (MSB)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lak  turystyczny znakowany kolorem czerwonym biegnący  od S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traconki w Bielsku-Białej (Beskid Mały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 Luboń Wielki (Beskid Wyspowy)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est czwartym pod względem długości szlakiem polskich Karpa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Prowadzi przez tereny Beskidów, które omija swoim przebiegiem Główny Szlak Beskidzki – Beskid Mały, Beskid Makowski oraz Beskid Wysp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Plik:CzerwonySzlakTurystyczn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071720"/>
            <a:ext cx="1357200" cy="101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ptsmlodz.free.ngo.pl/grafa/turysta.gif"/>
          <p:cNvPicPr/>
          <p:nvPr/>
        </p:nvPicPr>
        <p:blipFill>
          <a:blip r:embed="rId3"/>
          <a:stretch/>
        </p:blipFill>
        <p:spPr>
          <a:xfrm>
            <a:off x="7786800" y="5143680"/>
            <a:ext cx="1074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ymbol zastępczy zawartości 3" descr="bez tytułu4.jpg"/>
          <p:cNvPicPr/>
          <p:nvPr/>
        </p:nvPicPr>
        <p:blipFill>
          <a:blip r:embed="rId1"/>
          <a:stretch/>
        </p:blipFill>
        <p:spPr>
          <a:xfrm>
            <a:off x="285840" y="500040"/>
            <a:ext cx="84294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438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Ścieżka przyrodnicza na Czarny Groń w Beskidzie Mały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Symbol zastępczy zawartości 3" descr="20100301120107_sciezka%20na%20czarny%20gron.jpg"/>
          <p:cNvPicPr/>
          <p:nvPr/>
        </p:nvPicPr>
        <p:blipFill>
          <a:blip r:embed="rId1"/>
          <a:stretch/>
        </p:blipFill>
        <p:spPr>
          <a:xfrm>
            <a:off x="1500120" y="785880"/>
            <a:ext cx="621504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ymbol zastępczy zawartości 3" descr="bez tytułu7.jpg"/>
          <p:cNvPicPr/>
          <p:nvPr/>
        </p:nvPicPr>
        <p:blipFill>
          <a:blip r:embed="rId1"/>
          <a:stretch/>
        </p:blipFill>
        <p:spPr>
          <a:xfrm>
            <a:off x="357120" y="500040"/>
            <a:ext cx="8425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ymbol zastępczy zawartości 3" descr="bez tytułu5.jpg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 razie wypadku na tras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Symbol zastępczy zawartości 3" descr="bez tytułu6.jpg"/>
          <p:cNvPicPr/>
          <p:nvPr/>
        </p:nvPicPr>
        <p:blipFill>
          <a:blip r:embed="rId1"/>
          <a:stretch/>
        </p:blipFill>
        <p:spPr>
          <a:xfrm>
            <a:off x="500040" y="1143000"/>
            <a:ext cx="8358120" cy="379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gopr-podhale.pl/strona/gopr_radzi/sygnalizowanie_pomocy/sygnalizowanie.gif"/>
          <p:cNvPicPr/>
          <p:nvPr/>
        </p:nvPicPr>
        <p:blipFill>
          <a:blip r:embed="rId2"/>
          <a:stretch/>
        </p:blipFill>
        <p:spPr>
          <a:xfrm>
            <a:off x="3286080" y="5000760"/>
            <a:ext cx="28018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tacja GOPR na Groniu Jana Pawła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Symbol zastępczy zawartości 3" descr="Obraz_087[1].jpg"/>
          <p:cNvPicPr/>
          <p:nvPr/>
        </p:nvPicPr>
        <p:blipFill>
          <a:blip r:embed="rId1"/>
          <a:stretch/>
        </p:blipFill>
        <p:spPr>
          <a:xfrm>
            <a:off x="428760" y="857160"/>
            <a:ext cx="82152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ymbol zastępczy zawartości 3" descr="bez tytułu4a.jpg"/>
          <p:cNvPicPr/>
          <p:nvPr/>
        </p:nvPicPr>
        <p:blipFill>
          <a:blip r:embed="rId1"/>
          <a:stretch/>
        </p:blipFill>
        <p:spPr>
          <a:xfrm>
            <a:off x="785880" y="285840"/>
            <a:ext cx="8001000" cy="6297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pttk.jasnet.pl/img/turysta.gif"/>
          <p:cNvPicPr/>
          <p:nvPr/>
        </p:nvPicPr>
        <p:blipFill>
          <a:blip r:embed="rId2"/>
          <a:stretch/>
        </p:blipFill>
        <p:spPr>
          <a:xfrm>
            <a:off x="428760" y="5214960"/>
            <a:ext cx="847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ymbol zastępczy zawartości 3" descr="gory[1].gif"/>
          <p:cNvPicPr/>
          <p:nvPr/>
        </p:nvPicPr>
        <p:blipFill>
          <a:blip r:embed="rId1"/>
          <a:stretch/>
        </p:blipFill>
        <p:spPr>
          <a:xfrm>
            <a:off x="928800" y="857160"/>
            <a:ext cx="7348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ytuł 1"/>
          <p:cNvSpPr/>
          <p:nvPr/>
        </p:nvSpPr>
        <p:spPr>
          <a:xfrm>
            <a:off x="5072040" y="5500800"/>
            <a:ext cx="3214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Opr. A. Kołodziejc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zset.radzionkow.pl/zsr/images/stories/przyklady/szkolne/turysta.gif"/>
          <p:cNvPicPr/>
          <p:nvPr/>
        </p:nvPicPr>
        <p:blipFill>
          <a:blip r:embed="rId1"/>
          <a:stretch/>
        </p:blipFill>
        <p:spPr>
          <a:xfrm>
            <a:off x="3429000" y="2928960"/>
            <a:ext cx="1785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Oznakowanie szlaków turystycz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3" descr="Szlak_turystyczny[1].png"/>
          <p:cNvPicPr/>
          <p:nvPr/>
        </p:nvPicPr>
        <p:blipFill>
          <a:blip r:embed="rId1"/>
          <a:stretch/>
        </p:blipFill>
        <p:spPr>
          <a:xfrm>
            <a:off x="1143000" y="857160"/>
            <a:ext cx="6143760" cy="571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zwippp1.szkolnastrona.pl/container/kola_zainteresowan/turysta2.gif"/>
          <p:cNvPicPr/>
          <p:nvPr/>
        </p:nvPicPr>
        <p:blipFill>
          <a:blip r:embed="rId2"/>
          <a:stretch/>
        </p:blipFill>
        <p:spPr>
          <a:xfrm>
            <a:off x="7358040" y="4929120"/>
            <a:ext cx="15159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Oznakowanie szlaków turystycz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Symbol zastępczy zawartości 3" descr="bez tytułu.jpg"/>
          <p:cNvPicPr/>
          <p:nvPr/>
        </p:nvPicPr>
        <p:blipFill>
          <a:blip r:embed="rId1"/>
          <a:stretch/>
        </p:blipFill>
        <p:spPr>
          <a:xfrm>
            <a:off x="214200" y="1357200"/>
            <a:ext cx="86439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26431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znaczenia szlaków –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d góry: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konnego,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rciarskiego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piesz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ymbol zastępczy zawartości 3" descr="536px-Tourist_trails_pl01[1].jpg"/>
          <p:cNvPicPr/>
          <p:nvPr/>
        </p:nvPicPr>
        <p:blipFill>
          <a:blip r:embed="rId1"/>
          <a:stretch/>
        </p:blipFill>
        <p:spPr>
          <a:xfrm>
            <a:off x="3286080" y="285840"/>
            <a:ext cx="5572080" cy="623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asowo-stowarzyszenie.freehost.pl/turysta.gif"/>
          <p:cNvPicPr/>
          <p:nvPr/>
        </p:nvPicPr>
        <p:blipFill>
          <a:blip r:embed="rId2"/>
          <a:stretch/>
        </p:blipFill>
        <p:spPr>
          <a:xfrm>
            <a:off x="285840" y="3500280"/>
            <a:ext cx="28573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laki turystyczne na nizin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ymbol zastępczy zawartości 3" descr="450px-Szczecin-Kleskowo_PTTK_trails_2006[1].jpg"/>
          <p:cNvPicPr/>
          <p:nvPr/>
        </p:nvPicPr>
        <p:blipFill>
          <a:blip r:embed="rId1"/>
          <a:stretch/>
        </p:blipFill>
        <p:spPr>
          <a:xfrm>
            <a:off x="571680" y="857160"/>
            <a:ext cx="407160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Prostokąt 4"/>
          <p:cNvSpPr/>
          <p:nvPr/>
        </p:nvSpPr>
        <p:spPr>
          <a:xfrm>
            <a:off x="4929120" y="1500120"/>
            <a:ext cx="385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nizinach  trasa do punktów docelowych podawana jest w kilometrach, a nie jak w rejonach górskich  w szacowanych czasach przej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5"/>
          <p:cNvSpPr/>
          <p:nvPr/>
        </p:nvSpPr>
        <p:spPr>
          <a:xfrm>
            <a:off x="5000760" y="58579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ęzeł szlaków pieszych na Pomorzu Zachodn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yukato.com/img/TURYSTA1.GIF"/>
          <p:cNvPicPr/>
          <p:nvPr/>
        </p:nvPicPr>
        <p:blipFill>
          <a:blip r:embed="rId2"/>
          <a:stretch/>
        </p:blipFill>
        <p:spPr>
          <a:xfrm>
            <a:off x="5715000" y="3143160"/>
            <a:ext cx="1857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oznaczenie szczy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lh3.ggpht.com/_AK0lvltOPAo/TMWlUKn1WFI/AAAAAAAANHc/isb0c0AIqsA/s800/Gancarz%201.JPG"/>
          <p:cNvPicPr/>
          <p:nvPr/>
        </p:nvPicPr>
        <p:blipFill>
          <a:blip r:embed="rId1"/>
          <a:stretch/>
        </p:blipFill>
        <p:spPr>
          <a:xfrm>
            <a:off x="857160" y="71424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ojtek1.prv.pl/turysta.gif"/>
          <p:cNvPicPr/>
          <p:nvPr/>
        </p:nvPicPr>
        <p:blipFill>
          <a:blip r:embed="rId2"/>
          <a:stretch/>
        </p:blipFill>
        <p:spPr>
          <a:xfrm>
            <a:off x="6748560" y="4786200"/>
            <a:ext cx="2395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ymbol zastępczy zawartości 3" descr="img5056k[1].jpg"/>
          <p:cNvPicPr/>
          <p:nvPr/>
        </p:nvPicPr>
        <p:blipFill>
          <a:blip r:embed="rId1"/>
          <a:stretch/>
        </p:blipFill>
        <p:spPr>
          <a:xfrm>
            <a:off x="357120" y="357120"/>
            <a:ext cx="4143600" cy="621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g209.imageshack.us/img209/603/img4998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786200" y="357120"/>
            <a:ext cx="4143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ymbol zastępczy zawartości 3" descr="P4270016[1].JPG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428760" y="285840"/>
            <a:ext cx="83581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3:25:23Z</dcterms:created>
  <dc:creator>---</dc:creator>
  <dc:description/>
  <dc:language>en-US</dc:language>
  <cp:lastModifiedBy>Katarzyna Fulara-Potoczny</cp:lastModifiedBy>
  <dcterms:modified xsi:type="dcterms:W3CDTF">2020-05-03T16:04:31Z</dcterms:modified>
  <cp:revision>37</cp:revision>
  <dc:subject/>
  <dc:title>Ekwipunek turysty</dc:title>
</cp:coreProperties>
</file>