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5.jpeg" ContentType="image/jpeg"/>
  <Override PartName="/ppt/media/image4.png" ContentType="image/png"/>
  <Override PartName="/ppt/media/image1.gif" ContentType="image/gif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.gif" ContentType="image/gif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4CC-970D-4A20-B9D4-0AAE6D0A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A4A-A806-4D07-8C9D-CF69A1A6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48E-B1BB-46E8-A744-96D8F6FF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D3C-082F-4A69-BCB6-5D9C5215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528-D941-4923-914B-C12FE19B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B1F-0551-46EE-A86D-DC4BC1D1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B64-9087-4125-ADDC-81686058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EC9-09A3-4029-B077-337770CD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710-543A-483E-8D32-59F897FE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93B-BB27-4A7B-89C6-0DA75CCD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4E0-8A25-4B76-A9C9-54022BFB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529-F86A-4A6A-A8B8-EE93E8E0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D558-7E7C-4A32-A66F-C543D939B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620640"/>
            <a:ext cx="77724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Quiz obrazkowy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ytuł 1"/>
          <p:cNvSpPr/>
          <p:nvPr/>
        </p:nvSpPr>
        <p:spPr>
          <a:xfrm>
            <a:off x="785880" y="1214280"/>
            <a:ext cx="7772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Odgadnij - Co to jest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przedszkole11.leszno.pl/pliki/farida123274728124_gros%5B1%5D.gif"/>
          <p:cNvPicPr/>
          <p:nvPr/>
        </p:nvPicPr>
        <p:blipFill>
          <a:blip r:embed="rId1"/>
          <a:stretch/>
        </p:blipFill>
        <p:spPr>
          <a:xfrm>
            <a:off x="3071880" y="3357720"/>
            <a:ext cx="3066840" cy="30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educom.lublin.pl/publika/www/2%20bajki/images/pytajnik.gif"/>
          <p:cNvPicPr/>
          <p:nvPr/>
        </p:nvPicPr>
        <p:blipFill>
          <a:blip r:embed="rId2"/>
          <a:stretch/>
        </p:blipFill>
        <p:spPr>
          <a:xfrm>
            <a:off x="3714840" y="1785960"/>
            <a:ext cx="1419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786040" y="428760"/>
            <a:ext cx="3214800" cy="621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www.sp114.edu.pl/uczniow/matematyka/zadania6/grafika/inne/pytajnik.gif"/>
          <p:cNvPicPr/>
          <p:nvPr/>
        </p:nvPicPr>
        <p:blipFill>
          <a:blip r:embed="rId2"/>
          <a:stretch/>
        </p:blipFill>
        <p:spPr>
          <a:xfrm>
            <a:off x="1071720" y="2500200"/>
            <a:ext cx="857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357280" y="479520"/>
            <a:ext cx="4572000" cy="581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jan.zfcst.us.edu.pl/s/Tematy/19/pytajnik.gif"/>
          <p:cNvPicPr/>
          <p:nvPr/>
        </p:nvPicPr>
        <p:blipFill>
          <a:blip r:embed="rId2"/>
          <a:stretch/>
        </p:blipFill>
        <p:spPr>
          <a:xfrm>
            <a:off x="642960" y="4071960"/>
            <a:ext cx="17240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857680" y="428760"/>
            <a:ext cx="3500280" cy="614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operon.pl/var/plain_site/storage/images/media/images/pytajnik_kz_myszka/105368-1-pol-PL/pytajnik_kz_myszka.gif"/>
          <p:cNvPicPr/>
          <p:nvPr/>
        </p:nvPicPr>
        <p:blipFill>
          <a:blip r:embed="rId2"/>
          <a:stretch/>
        </p:blipFill>
        <p:spPr>
          <a:xfrm>
            <a:off x="6786720" y="4214880"/>
            <a:ext cx="1495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714760" y="1928880"/>
            <a:ext cx="2681280" cy="291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educom.lublin.pl/publika/www/2%20bajki/images/pytajnik.gif"/>
          <p:cNvPicPr/>
          <p:nvPr/>
        </p:nvPicPr>
        <p:blipFill>
          <a:blip r:embed="rId2"/>
          <a:stretch/>
        </p:blipFill>
        <p:spPr>
          <a:xfrm>
            <a:off x="5786280" y="3643200"/>
            <a:ext cx="2071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2900160" cy="3251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energia.pke.pl/img/399pytajnik.gif"/>
          <p:cNvPicPr/>
          <p:nvPr/>
        </p:nvPicPr>
        <p:blipFill>
          <a:blip r:embed="rId2"/>
          <a:stretch/>
        </p:blipFill>
        <p:spPr>
          <a:xfrm>
            <a:off x="6786720" y="4286160"/>
            <a:ext cx="12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---\Pulpit\Konkurs\SDC11155.jpg"/>
          <p:cNvPicPr/>
          <p:nvPr/>
        </p:nvPicPr>
        <p:blipFill>
          <a:blip r:embed="rId1"/>
          <a:stretch/>
        </p:blipFill>
        <p:spPr>
          <a:xfrm>
            <a:off x="2714760" y="357120"/>
            <a:ext cx="3857400" cy="608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sp114.edu.pl/uczniow/matematyka/zadania6/grafika/inne/pytajnik.gif"/>
          <p:cNvPicPr/>
          <p:nvPr/>
        </p:nvPicPr>
        <p:blipFill>
          <a:blip r:embed="rId2"/>
          <a:stretch/>
        </p:blipFill>
        <p:spPr>
          <a:xfrm>
            <a:off x="7215120" y="2023920"/>
            <a:ext cx="10000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500200" y="571680"/>
            <a:ext cx="4572000" cy="55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jan.zfcst.us.edu.pl/s/Tematy/19/pytajnik.gif"/>
          <p:cNvPicPr/>
          <p:nvPr/>
        </p:nvPicPr>
        <p:blipFill>
          <a:blip r:embed="rId2"/>
          <a:stretch/>
        </p:blipFill>
        <p:spPr>
          <a:xfrm>
            <a:off x="857160" y="4000680"/>
            <a:ext cx="17240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786040" y="1000080"/>
            <a:ext cx="37861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714760" y="1643040"/>
            <a:ext cx="3767040" cy="319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energia.pke.pl/img/399pytajnik.gif"/>
          <p:cNvPicPr/>
          <p:nvPr/>
        </p:nvPicPr>
        <p:blipFill>
          <a:blip r:embed="rId2"/>
          <a:stretch/>
        </p:blipFill>
        <p:spPr>
          <a:xfrm>
            <a:off x="785880" y="4572000"/>
            <a:ext cx="12859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928960" y="1071720"/>
            <a:ext cx="4572000" cy="485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educom.lublin.pl/publika/www/2%20bajki/images/pytajnik.gif"/>
          <p:cNvPicPr/>
          <p:nvPr/>
        </p:nvPicPr>
        <p:blipFill>
          <a:blip r:embed="rId2"/>
          <a:stretch/>
        </p:blipFill>
        <p:spPr>
          <a:xfrm>
            <a:off x="785880" y="4000680"/>
            <a:ext cx="18255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571840" y="857160"/>
            <a:ext cx="4143240" cy="5099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operon.pl/var/plain_site/storage/images/media/images/pytajnik_kz_myszka/105368-1-pol-PL/pytajnik_kz_myszka.gif"/>
          <p:cNvPicPr/>
          <p:nvPr/>
        </p:nvPicPr>
        <p:blipFill>
          <a:blip r:embed="rId2"/>
          <a:stretch/>
        </p:blipFill>
        <p:spPr>
          <a:xfrm>
            <a:off x="7000920" y="3857760"/>
            <a:ext cx="14954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786120" y="1928880"/>
            <a:ext cx="1581120" cy="2859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operon.pl/var/plain_site/storage/images/media/images/pytajnik_kz_myszka/105368-1-pol-PL/pytajnik_kz_myszka.gif"/>
          <p:cNvPicPr/>
          <p:nvPr/>
        </p:nvPicPr>
        <p:blipFill>
          <a:blip r:embed="rId2"/>
          <a:stretch/>
        </p:blipFill>
        <p:spPr>
          <a:xfrm>
            <a:off x="5929200" y="3857760"/>
            <a:ext cx="1495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pracował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 Alicja Kołodziejczy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ymbol zastępczy zawartości 3" descr="2011_103 a.jpg"/>
          <p:cNvPicPr/>
          <p:nvPr/>
        </p:nvPicPr>
        <p:blipFill>
          <a:blip r:embed="rId1"/>
          <a:stretch/>
        </p:blipFill>
        <p:spPr>
          <a:xfrm>
            <a:off x="1857240" y="461880"/>
            <a:ext cx="5929560" cy="596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jan.zfcst.us.edu.pl/s/Tematy/19/pytajnik.gif"/>
          <p:cNvPicPr/>
          <p:nvPr/>
        </p:nvPicPr>
        <p:blipFill>
          <a:blip r:embed="rId2"/>
          <a:stretch/>
        </p:blipFill>
        <p:spPr>
          <a:xfrm>
            <a:off x="285840" y="4357800"/>
            <a:ext cx="17240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ymbol zastępczy zawartości 3" descr="100_2321 b.jpg"/>
          <p:cNvPicPr/>
          <p:nvPr/>
        </p:nvPicPr>
        <p:blipFill>
          <a:blip r:embed="rId1"/>
          <a:stretch/>
        </p:blipFill>
        <p:spPr>
          <a:xfrm>
            <a:off x="1214280" y="571680"/>
            <a:ext cx="7344000" cy="46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static.miastophone.pl/28/a2/59396.gif"/>
          <p:cNvPicPr/>
          <p:nvPr/>
        </p:nvPicPr>
        <p:blipFill>
          <a:blip r:embed="rId2"/>
          <a:stretch/>
        </p:blipFill>
        <p:spPr>
          <a:xfrm>
            <a:off x="428760" y="521496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180200" cy="416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jan.zfcst.us.edu.pl/s/Tematy/19/pytajnik.gif"/>
          <p:cNvPicPr/>
          <p:nvPr/>
        </p:nvPicPr>
        <p:blipFill>
          <a:blip r:embed="rId2"/>
          <a:stretch/>
        </p:blipFill>
        <p:spPr>
          <a:xfrm>
            <a:off x="6643800" y="4500720"/>
            <a:ext cx="17240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71880" y="285840"/>
            <a:ext cx="2817720" cy="6269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educom.lublin.pl/publika/www/2%20bajki/images/pytajnik.gif"/>
          <p:cNvPicPr/>
          <p:nvPr/>
        </p:nvPicPr>
        <p:blipFill>
          <a:blip r:embed="rId2"/>
          <a:stretch/>
        </p:blipFill>
        <p:spPr>
          <a:xfrm>
            <a:off x="6500880" y="3527280"/>
            <a:ext cx="2071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---\Pulpit\Konkurs\100_2291c.jpg"/>
          <p:cNvPicPr/>
          <p:nvPr/>
        </p:nvPicPr>
        <p:blipFill>
          <a:blip r:embed="rId1"/>
          <a:stretch/>
        </p:blipFill>
        <p:spPr>
          <a:xfrm>
            <a:off x="2214720" y="419040"/>
            <a:ext cx="4740120" cy="608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sp114.edu.pl/uczniow/matematyka/zadania6/grafika/inne/pytajnik.gif"/>
          <p:cNvPicPr/>
          <p:nvPr/>
        </p:nvPicPr>
        <p:blipFill>
          <a:blip r:embed="rId2"/>
          <a:stretch/>
        </p:blipFill>
        <p:spPr>
          <a:xfrm>
            <a:off x="714240" y="2011320"/>
            <a:ext cx="1071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429000" y="2214720"/>
            <a:ext cx="2281320" cy="2219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educom.lublin.pl/publika/www/2%20bajki/images/pytajnik.gif"/>
          <p:cNvPicPr/>
          <p:nvPr/>
        </p:nvPicPr>
        <p:blipFill>
          <a:blip r:embed="rId2"/>
          <a:stretch/>
        </p:blipFill>
        <p:spPr>
          <a:xfrm>
            <a:off x="785880" y="3376440"/>
            <a:ext cx="22143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43000" y="1071720"/>
            <a:ext cx="690228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energia.pke.pl/img/399pytajnik.gif"/>
          <p:cNvPicPr/>
          <p:nvPr/>
        </p:nvPicPr>
        <p:blipFill>
          <a:blip r:embed="rId2"/>
          <a:stretch/>
        </p:blipFill>
        <p:spPr>
          <a:xfrm>
            <a:off x="7215120" y="4929120"/>
            <a:ext cx="1071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2:34:55Z</dcterms:created>
  <dc:creator>---</dc:creator>
  <dc:description/>
  <dc:language>en-US</dc:language>
  <cp:lastModifiedBy>-</cp:lastModifiedBy>
  <dcterms:modified xsi:type="dcterms:W3CDTF">2020-06-06T11:19:45Z</dcterms:modified>
  <cp:revision>36</cp:revision>
  <dc:subject/>
  <dc:title>Konkurs  obrazkowy</dc:title>
</cp:coreProperties>
</file>