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21.jpeg" ContentType="image/jpeg"/>
  <Override PartName="/ppt/media/image22.png" ContentType="image/png"/>
  <Override PartName="/ppt/media/camera.wav" ContentType="audio/x-wav"/>
  <Override PartName="/ppt/media/image7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4AC2-D387-4EFD-954F-B64BE85680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A5E3-E6B3-414D-A8DC-E407514B74B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AA5-33BA-4FD6-BC20-F62BC9FCB2F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EBB-F1C8-4712-AAE7-3383AAB8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441-D726-4F90-A33C-4D65C37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0AF-2240-4F54-921E-6F00C7E2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FAD-65B4-44FA-9DB2-E214FEBB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12A-72BA-4F8B-A7C0-816D6EC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A02-5FF7-4320-B665-7A41731F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414-515D-48A0-9A1E-BFFC8647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0EE-7A96-48A5-9AD4-A89C338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431-2510-436C-B19F-0A6D34BB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BDA-EB64-4BD8-B2B9-7FEB51D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B08-B9DA-49CB-8905-2350EE8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7B0-6F2A-45BF-BC85-C860EF6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DB5-25F5-40F8-AD0F-8EE683025D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" Target="slide12.xml"/><Relationship Id="rId5" Type="http://schemas.openxmlformats.org/officeDocument/2006/relationships/image" Target="../media/image4.jpeg"/><Relationship Id="rId6" Type="http://schemas.openxmlformats.org/officeDocument/2006/relationships/slide" Target="slide16.xml"/><Relationship Id="rId7" Type="http://schemas.openxmlformats.org/officeDocument/2006/relationships/image" Target="../media/image4.jpeg"/><Relationship Id="rId8" Type="http://schemas.openxmlformats.org/officeDocument/2006/relationships/slide" Target="slide3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Bodoni MT Black"/>
              </a:rPr>
              <a:t>REKRUTACJA </a:t>
            </a:r>
            <a:br>
              <a:rPr sz="6600"/>
            </a:br>
            <a:r>
              <a:rPr b="0" lang="pl-PL" sz="4000" spc="-1" strike="noStrike">
                <a:solidFill>
                  <a:srgbClr val="000000"/>
                </a:solidFill>
                <a:latin typeface="Bodoni MT Black"/>
              </a:rPr>
              <a:t>DO SZKÓŁ PONADGIMNAZJAL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k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2013/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Musique de films - L'Arnaque.mp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ut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11 lip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41148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ładanie przez uczniów nieprzyjętych do wybranej szkoły oryginałów dokumentów do szkół, które dysponują wolnymi miejsc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poranny.pl/apps/pbcsi.dll/bilde?Site=KP&amp;Date=20100524&amp;Category=AGLOMERACJABIALOSTOCKA&amp;ArtNo=688302957&amp;Ref=AR&amp;border=0&amp;MaxW=180"/>
          <p:cNvPicPr/>
          <p:nvPr/>
        </p:nvPicPr>
        <p:blipFill>
          <a:blip r:embed="rId1"/>
          <a:stretch/>
        </p:blipFill>
        <p:spPr>
          <a:xfrm>
            <a:off x="2843280" y="3500280"/>
            <a:ext cx="3370320" cy="25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8 -0.20393 L 0.50677 -0.78125 E">
                                      <p:cBhvr>
                                        <p:cTn id="20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4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głoszenie przez szkolne komisje list przyjętych do szkoł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40360" y="4220640"/>
            <a:ext cx="741672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a rekrutac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ytuł 3"/>
          <p:cNvSpPr/>
          <p:nvPr/>
        </p:nvSpPr>
        <p:spPr>
          <a:xfrm>
            <a:off x="468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5 lipca – 29 sierp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mariamagdalena.pl/new/images/kalendarz.gif"/>
          <p:cNvPicPr/>
          <p:nvPr/>
        </p:nvPicPr>
        <p:blipFill>
          <a:blip r:embed="rId1"/>
          <a:stretch/>
        </p:blipFill>
        <p:spPr>
          <a:xfrm>
            <a:off x="611280" y="2924280"/>
            <a:ext cx="28288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datkowe in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t2.gstatic.com/images?q=tbn:ANd9GcQRhRSthUfDfgYe8DmN9M8whpU98DJcEHUMW-qnzhnVPz2lRul4"/>
          <p:cNvPicPr/>
          <p:nvPr/>
        </p:nvPicPr>
        <p:blipFill>
          <a:blip r:embed="rId1"/>
          <a:stretch/>
        </p:blipFill>
        <p:spPr>
          <a:xfrm>
            <a:off x="3635280" y="30686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xit" presetID="3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ci do szkó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adgimnazjalnych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tóre są obję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stemem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onują rejestracji internetowej do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trz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zkó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W obrębie jednej szkoły mają możliwoś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oru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dowolnej liczby oddział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tukobi.pl/systemcms/szkola.jpg"/>
          <p:cNvPicPr/>
          <p:nvPr/>
        </p:nvPicPr>
        <p:blipFill>
          <a:blip r:embed="rId1"/>
          <a:stretch/>
        </p:blipFill>
        <p:spPr>
          <a:xfrm>
            <a:off x="4516560" y="1195560"/>
            <a:ext cx="3846240" cy="260172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xit" presetID="4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907560"/>
            <a:ext cx="84470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tów do szkół, które są objęte systemem rekrutacji elektronicznej, obowiązuj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ujednolicone „podanie o przyjęcie do szkoły”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tóre składają w szkole pierwszego wyb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3"/>
          <p:cNvSpPr/>
          <p:nvPr/>
        </p:nvSpPr>
        <p:spPr>
          <a:xfrm>
            <a:off x="539640" y="342900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umentami potwierdzającymi wolę podjęcia nauki w wybranej szkole ponadgimnazjalnej są: oryginał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świadectwa ukończenia gimnazju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ryginał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zaświadczenia o wynikach egzaminu gimnazjaln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heel spokes="1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82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Rekrutacja uzupełniają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krutacji uzupełniającej uczestniczą kandydaci, którzy nie zostali przyjęci do wybranych szkół w pierwszym termi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prowadzana jest ona we wszystkich szkołach sposobem tradycyjnym. Kandydaci posługują się oryginalnymi dokument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7000">
    <p:diamond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461 0.725 C 0.48142 0.71898 0.49878 0.72523 0.48559 0.725 C 0.47239 0.72431 0.45937 0.72246 0.44618 0.72084 C 0.43993 0.71898 0.43437 0.71644 0.42795 0.71482 C 0.42135 0.71111 0.4151 0.70949 0.40833 0.70672 C 0.37447 0.67477 0.38663 0.68982 0.36892 0.66597 C 0.35989 0.6544 0.3552 0.63843 0.34461 0.62801 C 0.33836 0.61042 0.32465 0.59097 0.31597 0.575 C 0.31215 0.56852 0.31024 0.56019 0.30677 0.55301 C 0.30555 0.54514 0.30416 0.53797 0.30225 0.53102 C 0.30295 0.49977 0.29566 0.45741 0.31128 0.4301 C 0.31302 0.42315 0.31562 0.41945 0.31892 0.41366 C 0.3342 0.38681 0.3526 0.36227 0.37795 0.3551 C 0.38888 0.34167 0.41128 0.3507 0.42204 0.35139 C 0.42343 0.35162 0.43454 0.35324 0.43559 0.3551 C 0.43645 0.35695 0.43923 0.36922 0.4401 0.37361 C 0.43802 0.49213 0.45329 0.43264 0.42951 0.46389 C 0.42118 0.47547 0.42916 0.4706 0.42048 0.47454 C 0.41145 0.48658 0.41631 0.48334 0.40677 0.48658 C 0.4 0.4926 0.39184 0.49746 0.38402 0.5007 C 0.36718 0.51783 0.34479 0.53449 0.325 0.54514 C 0.31371 0.55741 0.3052 0.56806 0.29166 0.575 C 0.27934 0.58843 0.26458 0.59815 0.2493 0.60347 C 0.21284 0.60255 0.18142 0.59885 0.14618 0.59537 C 0.13281 0.58935 0.14027 0.5919 0.12343 0.58935 C 0.10659 0.58403 0.08923 0.58125 0.07343 0.57153 C 0.0684 0.56088 0.05868 0.54954 0.05069 0.54329 C 0.04635 0.53449 0.0401 0.5301 0.03559 0.52084 C 0.03263 0.51505 0.03072 0.50857 0.02795 0.50278 C 0.02447 0.48241 0.01788 0.46366 0.00989 0.4463 C 0.0085 0.43264 0.00746 0.42037 0.00381 0.40787 C 0.00329 0.40093 0.00225 0.39398 0.00225 0.38773 C 0.00225 0.32709 -0.01146 0.27338 0.01441 0.22801 C 0.02239 0.21389 0.02031 0.22222 0.02795 0.21158 C 0.03385 0.20371 0.03767 0.1963 0.04618 0.19352 C 0.05329 0.17986 0.0651 0.175 0.07656 0.16898 C 0.09236 0.16181 0.10833 0.15533 0.125 0.15324 C 0.13697 0.14931 0.14756 0.14491 0.15989 0.14329 C 0.171 0.14398 0.18211 0.14398 0.19322 0.14491 C 0.20277 0.1456 0.21076 0.15324 0.22048 0.15486 C 0.23003 0.16019 0.23923 0.16459 0.2493 0.16736 C 0.26093 0.18264 0.25503 0.1794 0.26441 0.1831 C 0.26979 0.19051 0.27482 0.20023 0.28107 0.2051 C 0.28211 0.20857 0.28263 0.21158 0.28402 0.21389 C 0.28559 0.21644 0.28854 0.2169 0.2901 0.21968 C 0.29409 0.22709 0.29566 0.2338 0.29774 0.24213 C 0.29722 0.25486 0.29704 0.26783 0.29618 0.28033 C 0.29566 0.28727 0.29322 0.28727 0.2901 0.2926 C 0.28524 0.30139 0.28368 0.30741 0.27795 0.31459 C 0.27569 0.31806 0.27274 0.31991 0.27048 0.32269 C 0.26579 0.32871 0.26302 0.33658 0.25833 0.34283 C 0.25538 0.3544 0.24722 0.36227 0.2401 0.36922 C 0.23524 0.37894 0.22899 0.38334 0.22204 0.38959 C 0.21597 0.39491 0.21215 0.40347 0.20677 0.40972 C 0.20034 0.41783 0.19079 0.42246 0.18263 0.4257 C 0.1677 0.44097 0.14791 0.4507 0.12951 0.45417 C 0.12118 0.46273 0.11354 0.46088 0.10381 0.46389 C 0.06944 0.47685 0.03333 0.48125 -0.00226 0.48658 C -0.11858 0.48426 -0.06823 0.49445 -0.13264 0.46621 C -0.14671 0.44769 -0.16077 0.42824 -0.175 0.40972 C -0.1816 0.40093 -0.18855 0.38843 -0.19619 0.38172 C -0.19948 0.37292 -0.20313 0.36644 -0.20834 0.35949 C -0.2125 0.34468 -0.21962 0.33148 -0.22344 0.3169 C -0.2323 0.28287 -0.24011 0.24815 -0.24775 0.21389 C -0.24827 0.20602 -0.24792 0.19885 -0.24931 0.19144 C -0.25 0.18797 -0.25313 0.18658 -0.25382 0.1831 C -0.25608 0.17292 -0.25556 0.16181 -0.25678 0.15093 C -0.2573 0.14167 -0.25695 0.13195 -0.25834 0.12269 C -0.25886 0.11875 -0.26198 0.11667 -0.26285 0.11273 C -0.26407 0.10787 -0.26337 0.10209 -0.26441 0.09676 C -0.26615 0.08843 -0.26997 0.08079 -0.27205 0.07246 C -0.27257 0.06852 -0.27275 0.06412 -0.27344 0.06019 C -0.27466 0.05394 -0.27691 0.04746 -0.27796 0.04213 C -0.28473 0.00093 -0.27639 0.02639 -0.28559 0.00162 C -0.28768 -0.01203 -0.28941 -0.02569 -0.29167 -0.03958 C -0.29098 -0.05069 -0.29289 -0.06412 -0.28872 -0.075 C -0.28438 -0.08657 -0.2698 -0.09097 -0.26129 -0.09305 C -0.24705 -0.10324 -0.22796 -0.10324 -0.21285 -0.10532 C 0.025 -0.10092 -0.0658 -0.11574 0.02951 -0.09305 C 0.03541 -0.08912 0.04184 -0.0868 0.04774 -0.0831 C 0.06354 -0.07291 0.04895 -0.08009 0.05989 -0.075 C 0.06284 -0.07083 0.06597 -0.0669 0.06892 -0.06342 C 0.07048 -0.06157 0.07343 -0.05764 0.07343 -0.0574 C 0.075 -0.05092 0.07552 -0.04861 0.07795 -0.04305 C 0.07986 -0.03958 0.08402 -0.03055 0.08402 -0.03032 C 0.08454 -0.02592 0.08472 -0.02129 0.08559 -0.01666 C 0.08628 -0.01227 0.08871 -0.0044 0.08871 -0.00416 C 0.08802 0.01366 0.09236 0.0338 0.08263 0.04746 C 0.07465 0.07917 0.06024 0.09283 0.0401 0.10857 C 0.02691 0.11875 0.03593 0.11528 0.025 0.11875 C 0.01006 0.1338 -0.01441 0.13727 -0.03264 0.14329 C -0.05087 0.14213 -0.06893 0.14213 -0.08716 0.14074 C -0.09445 0.14051 -0.09896 0.12709 -0.10226 0.12107 C -0.10834 0.10857 -0.11129 0.09468 -0.11893 0.08449 C -0.12292 0.0588 -0.11771 0.08658 -0.12344 0.06852 C -0.12657 0.0588 -0.12535 0.05579 -0.13108 0.04746 C -0.13351 0.04144 -0.13455 0.03542 -0.13872 0.02917 C -0.14393 0.01088 -0.15521 -0.00115 -0.1599 -0.02129 C -0.1665 -0.04861 -0.17084 -0.06805 -0.17344 -0.09768 C -0.17292 -0.11203 -0.17292 -0.12685 -0.17205 -0.14166 C -0.17171 -0.14745 -0.16754 -0.15231 -0.16441 -0.15578 C -0.15469 -0.16643 -0.14011 -0.17129 -0.12796 -0.17384 C -0.10278 -0.17153 -0.08247 -0.16713 -0.05834 -0.16389 C -0.05035 -0.16157 -0.04341 -0.15717 -0.03559 -0.1537 C -0.02657 -0.1449 -0.0224 -0.1324 -0.01441 -0.12153 C -0.01198 -0.11203 -0.00903 -0.10532 -0.00678 -0.09537 C -0.0073 -0.07639 -0.0073 -0.05764 -0.00834 -0.03958 C -0.00973 -0.01412 -0.01441 0.01065 -0.01441 0.03611 E">
                                      <p:cBhvr>
                                        <p:cTn id="29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Za co przyznawane są punk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t3.gstatic.com/images?q=tbn:ANd9GcTZweBK2RQYtaWQ3AR9IAp1GnnNiLIACv7ufd5PogFB7-lSqXtx"/>
          <p:cNvPicPr/>
          <p:nvPr/>
        </p:nvPicPr>
        <p:blipFill>
          <a:blip r:embed="rId1"/>
          <a:stretch/>
        </p:blipFill>
        <p:spPr>
          <a:xfrm>
            <a:off x="2987640" y="2492280"/>
            <a:ext cx="3078360" cy="30798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xit" presetID="1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620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00 pk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– liczba punktów możliwych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yskania za egzamin gimnazjal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Egzamin gimnazjalny 2010 - część matematyczno-przyrodnicza, arkusze i oficjalny klucz odpowiedzi CKE"/>
          <p:cNvPicPr/>
          <p:nvPr/>
        </p:nvPicPr>
        <p:blipFill>
          <a:blip r:embed="rId1"/>
          <a:stretch/>
        </p:blipFill>
        <p:spPr>
          <a:xfrm>
            <a:off x="4859280" y="3573360"/>
            <a:ext cx="3378240" cy="2251080"/>
          </a:xfrm>
          <a:prstGeom prst="rect">
            <a:avLst/>
          </a:prstGeom>
          <a:ln w="0">
            <a:noFill/>
          </a:ln>
        </p:spPr>
      </p:pic>
      <p:sp>
        <p:nvSpPr>
          <p:cNvPr id="97" name="pole tekstowe 4"/>
          <p:cNvSpPr/>
          <p:nvPr/>
        </p:nvSpPr>
        <p:spPr>
          <a:xfrm>
            <a:off x="826920" y="76500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Maksymalna liczba punktów możliwych do uzyskania –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200 pk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., w ty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250" autoRev="1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00 pk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– liczba punktów możliwych do uzyskania za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oce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na świadectwie ukończenia gimnazjum (z języka polskiego i trzech obowiązkowych zajęć edukacyjnych wskazanych w statucie szkoły) oraz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zczególne osiągnięci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ucznia wymienione w świadectwie ukończenia gimnazj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7000">
    <p:randomBar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Sposób przeliczania na punkty ocen </a:t>
            </a:r>
            <a:br>
              <a:rPr sz="3600"/>
            </a:b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z języka polskiego i trzech obowiązkowych zajęć edukacyjnych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ujący – 2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obry – 18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bry – 15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stateczny – 1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uszczający – 2 p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lukomskabekiel.files.wordpress.com/2011/01/oceny.gif"/>
          <p:cNvPicPr/>
          <p:nvPr/>
        </p:nvPicPr>
        <p:blipFill>
          <a:blip r:embed="rId1"/>
          <a:stretch/>
        </p:blipFill>
        <p:spPr>
          <a:xfrm>
            <a:off x="5148360" y="2276640"/>
            <a:ext cx="3378240" cy="3065400"/>
          </a:xfrm>
          <a:prstGeom prst="rect">
            <a:avLst/>
          </a:prstGeom>
          <a:ln w="0">
            <a:noFill/>
          </a:ln>
        </p:spPr>
      </p:pic>
    </p:spTree>
  </p:cSld>
  <p:transition advTm="22000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5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Na skró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owiązujące term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e informa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co przyznawane są punk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kol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krakoff.info/wp-content/images/zielona-strzalka.jpg"/>
          <p:cNvPicPr/>
          <p:nvPr/>
        </p:nvPicPr>
        <p:blipFill>
          <a:blip r:embed="rId1"/>
          <a:stretch/>
        </p:blipFill>
        <p:spPr>
          <a:xfrm>
            <a:off x="2771640" y="4076640"/>
            <a:ext cx="280836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polsl.pl/Jednostki/CZP/PublishingImages/strza%C5%82ka_w_dol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88000" y="155736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polsl.pl/Jednostki/CZP/PublishingImages/strza%C5%82ka_w_dol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227664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polsl.pl/Jednostki/CZP/PublishingImages/strza%C5%82ka_w_dol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88000" y="2997360"/>
            <a:ext cx="641520" cy="64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polsl.pl/Jednostki/CZP/PublishingImages/strza%C5%82ka_w_dol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050920" y="5589720"/>
            <a:ext cx="641520" cy="641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076 0.01111 L 0.16424 0.01111 E">
                                      <p:cBhvr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5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ndydatom do szkół ponadgimnazjalnych, zwolnionym z egzaminu gimnazjalnego, liczbę punktów uzyskanych z języka polski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trzech wybranych zajęć edukacyjnych do celów rekrutacyjnych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noży się przez d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4000">
    <p:circl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xit" presetID="37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19640" y="70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Szczególne osiągnię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szczególne osiągnięcia ucznia wymienione w świadectwie ukończenia gimnazjum kandydat może uzyskać co najwyżej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20 pkt.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czy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t3.gstatic.com/images?q=tbn:ANd9GcR5rIxAase0pXB5hgibMwx0M33dAb7Jp5rLNZXTTpYS4F1BoDDG"/>
          <p:cNvPicPr/>
          <p:nvPr/>
        </p:nvPicPr>
        <p:blipFill>
          <a:blip r:embed="rId1"/>
          <a:stretch/>
        </p:blipFill>
        <p:spPr>
          <a:xfrm>
            <a:off x="3419640" y="3860640"/>
            <a:ext cx="2141280" cy="22482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7 -0.07268 L -0.52864 -0.88125 E">
                                      <p:cBhvr>
                                        <p:cTn id="3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papirus.rybnik.pl/obrazki/tryumf_puchar5003.jpg"/>
          <p:cNvPicPr/>
          <p:nvPr/>
        </p:nvPicPr>
        <p:blipFill>
          <a:blip r:embed="rId1"/>
          <a:stretch/>
        </p:blipFill>
        <p:spPr>
          <a:xfrm>
            <a:off x="3127320" y="639720"/>
            <a:ext cx="4651560" cy="644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ukończenie gimnazjum z wyróżnieniem – 5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udział w konkursach organizowanych przez Kuratora Oświaty, w ty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finalista konkursu ponadwojewódzkiego – 10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finalista konkursu wojewódzkiego – 8 pkt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) Za osiągnięcia wpisane na świadectwie – do 6 pkt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9000">
    <p:newsflash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620640"/>
            <a:ext cx="84247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przypadku, gdy kandydat uzyska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okresie trzech lat kilka lo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unktowanych w tym sam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onkursie, uznaje się tylko jedną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ajwyższą lokatę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az 2" descr="Bez tytułu.png"/>
          <p:cNvPicPr/>
          <p:nvPr/>
        </p:nvPicPr>
        <p:blipFill>
          <a:blip r:embed="rId1"/>
          <a:stretch/>
        </p:blipFill>
        <p:spPr>
          <a:xfrm>
            <a:off x="3322800" y="3998880"/>
            <a:ext cx="5224320" cy="176868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1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0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1" dur="25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0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4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5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06" dur="250" autoRev="1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0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9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0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1" dur="25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5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41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9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20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21" dur="250" autoRev="1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Calibri"/>
              </a:rPr>
              <a:t>Laure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urea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nkursów i olimpiad o zasię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ewódzkim i ponadwojewódzkim, któr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gram obejmu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ałości lub poszer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eści podstaw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gramowej co najmn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ego przedmio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jmowani są do wybranej szkoły niezależ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kryteriów zawartych w statutach szkó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t1.gstatic.com/images?q=tbn:ANd9GcQXKDpoPIiOAyTyExKrG29eDD8IxAR7i_39YyeQ_VpJaSiBLeHozg"/>
          <p:cNvPicPr/>
          <p:nvPr/>
        </p:nvPicPr>
        <p:blipFill>
          <a:blip r:embed="rId1"/>
          <a:stretch/>
        </p:blipFill>
        <p:spPr>
          <a:xfrm>
            <a:off x="4859280" y="2349360"/>
            <a:ext cx="3111480" cy="2489400"/>
          </a:xfrm>
          <a:prstGeom prst="rect">
            <a:avLst/>
          </a:prstGeom>
          <a:ln w="0">
            <a:noFill/>
          </a:ln>
        </p:spPr>
      </p:pic>
    </p:spTree>
  </p:cSld>
  <p:transition advTm="21000">
    <p:push dir="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47 -0.0243 C -0.12899 -0.02314 -0.15104 -0.02037 -0.17622 -0.01828 C -0.19045 -0.01481 -0.20486 -0.01088 -0.21858 -0.00416 C -0.225 -0.00092 -0.23056 0.00463 -0.23681 0.00787 C -0.25434 0.01713 -0.23698 0.00463 -0.24896 0.01204 C -0.25868 0.01806 -0.26962 0.02361 -0.27917 0.0301 C -0.28924 0.03681 -0.3 0.04537 -0.31111 0.04838 C -0.31476 0.0507 -0.31788 0.05463 -0.3217 0.05648 C -0.32604 0.05857 -0.3309 0.05857 -0.33524 0.06042 C -0.34688 0.07593 -0.32708 0.05093 -0.34445 0.06644 C -0.34861 0.07014 -0.35139 0.07593 -0.35504 0.08079 C -0.36528 0.09445 -0.37483 0.11065 -0.38681 0.12107 C -0.39323 0.13334 -0.40052 0.14445 -0.40955 0.15348 C -0.41007 0.15625 -0.4099 0.15926 -0.41111 0.16158 C -0.41215 0.16366 -0.41441 0.16389 -0.41563 0.16551 C -0.41945 0.17061 -0.4224 0.17662 -0.42622 0.18172 C -0.42726 0.18449 -0.42795 0.18727 -0.42917 0.18982 C -0.43004 0.19144 -0.43177 0.1919 -0.43229 0.19375 C -0.43333 0.19699 -0.43299 0.2007 -0.43385 0.20394 C -0.43594 0.21111 -0.43924 0.21875 -0.44132 0.22616 C -0.44149 0.22824 -0.44392 0.25348 -0.44445 0.25648 C -0.44601 0.26459 -0.44896 0.27246 -0.45052 0.28079 C -0.45174 0.34028 -0.4658 0.47153 -0.4474 0.50695 C -0.44583 0.51528 -0.44514 0.52199 -0.44132 0.52917 C -0.4401 0.53866 -0.4375 0.5463 -0.43524 0.55533 C -0.43472 0.56273 -0.4349 0.57014 -0.43385 0.57755 C -0.43229 0.58912 -0.42708 0.59584 -0.42326 0.60602 C -0.42031 0.61366 -0.42292 0.61135 -0.42014 0.62014 C -0.41771 0.62801 -0.41007 0.64885 -0.4066 0.65648 C -0.40313 0.66412 -0.39774 0.67431 -0.39288 0.68079 C -0.39063 0.6838 -0.3875 0.68565 -0.38524 0.68866 C -0.37465 0.70255 -0.36667 0.71667 -0.35191 0.72315 C -0.34254 0.73565 -0.32899 0.74514 -0.31563 0.74931 C -0.30955 0.75741 -0.31597 0.75047 -0.30504 0.75533 C -0.29896 0.75811 -0.29462 0.76158 -0.28837 0.76343 C -0.28316 0.76806 -0.27934 0.76968 -0.27326 0.77153 C -0.26615 0.77639 -0.25938 0.77639 -0.25191 0.77963 C -0.24601 0.78797 -0.25174 0.78148 -0.23837 0.78565 C -0.21875 0.79167 -0.19913 0.79723 -0.17917 0.80186 C -0.15955 0.81574 -0.13941 0.81667 -0.11719 0.81806 C -0.09028 0.82778 -0.10625 0.82361 -0.06858 0.82616 C -0.04896 0.83287 -0.02795 0.83426 -0.00799 0.8382 C 0.03663 0.83658 0.05642 0.83681 0.10104 0.83218 C 0.12344 0.82986 0.1434 0.81783 0.16476 0.81204 C 0.17118 0.80764 0.17743 0.80625 0.18437 0.80394 C 0.19045 0.79815 0.19705 0.79838 0.20417 0.79584 C 0.21545 0.78588 0.2309 0.78588 0.2434 0.77963 C 0.25382 0.77431 0.26267 0.76852 0.27378 0.76551 C 0.28003 0.75718 0.28299 0.75949 0.29045 0.75533 C 0.29687 0.75162 0.30087 0.74769 0.30555 0.74121 C 0.30712 0.73264 0.3099 0.72315 0.31476 0.71713 C 0.31875 0.70602 0.32587 0.69861 0.33142 0.68866 C 0.33663 0.67917 0.34184 0.67084 0.34809 0.6625 C 0.3526 0.65648 0.35451 0.64723 0.36007 0.64236 C 0.36337 0.63959 0.36736 0.63866 0.37083 0.63635 C 0.37656 0.62848 0.38455 0.62431 0.39045 0.61598 C 0.39496 0.59861 0.40295 0.58287 0.40712 0.56551 C 0.41076 0.55047 0.4118 0.53426 0.41476 0.51898 C 0.41424 0.47338 0.42326 0.3801 0.4026 0.32523 C 0.39948 0.30023 0.39601 0.27523 0.39201 0.25047 C 0.39149 0.24746 0.38976 0.24514 0.38889 0.24236 C 0.38646 0.2338 0.38472 0.22084 0.38142 0.21204 C 0.37448 0.19352 0.36684 0.17315 0.35712 0.15741 C 0.35226 0.14977 0.34774 0.13959 0.34201 0.13311 C 0.3401 0.13102 0.33767 0.1294 0.33594 0.12709 C 0.32621 0.11412 0.33715 0.12269 0.32535 0.11505 C 0.31424 0.10023 0.33281 0.12361 0.31615 0.10903 C 0.31458 0.10764 0.31458 0.10463 0.31319 0.10301 C 0.31146 0.10116 0.30903 0.1007 0.30712 0.09885 C 0.30538 0.09723 0.30434 0.09445 0.3026 0.09283 C 0.29774 0.0882 0.29167 0.08658 0.28594 0.08473 C 0.27934 0.07639 0.25642 0.07292 0.24653 0.07061 C 0.23958 0.06412 0.23177 0.06528 0.22378 0.0625 C 0.20764 0.04838 0.18403 0.05741 0.16476 0.0544 C -0.00556000000000001 0.06065 0.05312 0.04954 -0.0125 0.0625 C -0.02188 0.06736 -0.03142 0.06783 -0.04132 0.07061 C -0.05243 0.07778 -0.06424 0.07778 -0.07622 0.08079 C -0.09896 0.08635 -0.12083 0.09074 -0.14288 0.10093 C -0.15174 0.1051 -0.15799 0.1125 -0.16563 0.11898 C -0.17691 0.12848 -0.18854 0.13727 -0.20052 0.14537 C -0.22014 0.15857 -0.20208 0.15047 -0.21406 0.15533 C -0.22222 0.16621 -0.23385 0.17246 -0.24288 0.18172 C -0.25174 0.19074 -0.25625 0.20556 -0.26406 0.21598 C -0.26632 0.22778 -0.2691 0.2375 -0.27326 0.24838 C -0.27465 0.25672 -0.27639 0.26297 -0.27917 0.27061 C -0.28333 0.30903 -0.29097 0.34514 -0.30052 0.38172 C -0.30278 0.40417 -0.30087 0.39167 -0.30799 0.42014 C -0.30851 0.42223 -0.30955 0.42616 -0.30955 0.42639 C -0.31111 0.44422 -0.31076 0.46273 -0.3125 0.48079 C -0.3132 0.48866 -0.31684 0.49561 -0.31858 0.50301 C -0.3217 0.53959 -0.32361 0.54468 -0.32014 0.5838 C -0.31945 0.5919 -0.30851 0.60394 -0.30504 0.60996 C -0.28611 0.64329 -0.25938 0.6794 -0.22917 0.69283 C -0.21267 0.71482 -0.23715 0.68426 -0.21858 0.70093 C -0.21701 0.70232 -0.21719 0.70579 -0.21563 0.70695 C -0.21302 0.70926 -0.20955 0.70949 -0.2066 0.71088 C -0.18941 0.72917 -0.16545 0.74977 -0.14288 0.75348 C -0.13229 0.7551 -0.1217 0.75602 -0.11111 0.75741 C -0.08542 0.75672 -0.05955 0.75718 -0.03385 0.75533 C -0.03264 0.75533 -0.01719 0.74607 -0.01563 0.74537 C -0.00278 0.73959 0.01042 0.73357 0.02378 0.73125 C 0.0368 0.72223 0.02222 0.73125 0.0375 0.72523 C 0.0474 0.7213 0.04236 0.72153 0.05104 0.71713 C 0.06406 0.71065 0.0717 0.70741 0.08437 0.70486 C 0.09479 0.69954 0.10555 0.69769 0.11615 0.69283 C 0.12621 0.6882 0.13594 0.68334 0.14653 0.68079 C 0.15399 0.66482 0.14444 0.68334 0.15417 0.67061 C 0.1658 0.65556 0.14792 0.67315 0.16163 0.66042 C 0.16927 0.64051 0.15903 0.66505 0.17083 0.64422 C 0.17465 0.63727 0.17656 0.63033 0.18142 0.62408 C 0.18906 0.61389 0.18316 0.62593 0.18889 0.61598 C 0.19531 0.6051 0.2 0.59375 0.20868 0.58565 C 0.2125 0.575 0.21753 0.56389 0.22378 0.55533 C 0.22552 0.54398 0.22674 0.53241 0.2283 0.52107 C 0.22726 0.48172 0.22726 0.44445 0.22222 0.40602 C 0.21805 0.37408 0.22309 0.38797 0.21476 0.36968 C 0.21198 0.35186 0.20764 0.33473 0.20417 0.31713 C 0.20226 0.30787 0.20139 0.29723 0.19809 0.28866 C 0.19219 0.27315 0.1842 0.26204 0.17674 0.24838 C 0.17205 0.23982 0.16892 0.22963 0.16319 0.22199 C 0.15573 0.21204 0.1408 0.19861 0.13142 0.1919 C 0.11858 0.18264 0.08924 0.18311 0.07535 0.18172 C 0.0625 0.17477 0.04809 0.17477 0.03437 0.17153 C 0.01719 0.17223 8.33333000001268E-007 0.17223 -0.01719 0.17361 C -0.02379 0.17408 -0.03542 0.19121 -0.03993 0.19375 C -0.04809 0.19838 -0.05556 0.20301 -0.06406 0.20602 C -0.07014 0.21366 -0.07726 0.21945 -0.08524 0.22199 C -0.09306 0.23241 -0.08229 0.21852 -0.09445 0.23218 C -0.09965 0.23797 -0.10243 0.24537 -0.10799 0.25047 C -0.1099 0.25811 -0.11129 0.26482 -0.11563 0.27061 C -0.11719 0.27894 -0.11701 0.28658 -0.1217 0.29283 C -0.12431 0.30139 -0.12604 0.31065 -0.12917 0.31898 C -0.1375 0.34144 -0.13108 0.31459 -0.14132 0.34931 C -0.15035 0.37963 -0.14149 0.36135 -0.14896 0.3757 C -0.14948 0.37917 -0.15208 0.39561 -0.15347 0.40186 C -0.15434 0.40602 -0.1566 0.41412 -0.1566 0.41436 C -0.15972 0.44167 -0.16042 0.45602 -0.15799 0.48866 C -0.15677 0.5051 -0.13889 0.52431 -0.13385 0.53727 C -0.12517 0.55973 -0.13941 0.525 -0.12014 0.55949 C -0.10278 0.59074 -0.07986 0.60371 -0.05191 0.60996 C -0.03524 0.61922 -0.01649 0.62084 0.00104 0.62616 C 0.00434 0.62709 0.01736 0.63218 0.02083 0.63426 C 0.02344 0.63588 0.02552 0.63936 0.0283 0.64028 C 0.03472 0.64213 0.04149 0.64167 0.04809 0.64236 C 0.06719 0.64051 0.08646 0.64121 0.10555 0.6382 C 0.10955 0.6375 0.11233 0.63195 0.11615 0.6301 C 0.12951 0.62338 0.14375 0.61898 0.15712 0.61204 C 0.16146 0.60602 0.16545 0.60023 0.17083 0.59584 C 0.1809 0.57778 0.1816 0.5551 0.18889 0.53519 C 0.18941 0.53195 0.18941 0.52824 0.19045 0.52523 C 0.19097 0.52338 0.19271 0.52269 0.1934 0.52107 C 0.20174 0.49838 0.18819 0.52593 0.19809 0.50695 C 0.19913 0.49931 0.20243 0.49236 0.2026 0.48473 C 0.20295 0.47269 0.19601 0.45857 0.20104 0.44838 C 0.20434 0.44167 0.21319 0.44977 0.21927 0.45047 C 0.20851 0.45741 0.19844 0.45139 0.1875 0.44838 C 0.19635 0.44537 0.20746 0.45162 0.21476 0.44422 C 0.2184 0.44051 0.21371 0.43218 0.21319 0.42616 C 0.21233 0.39213 0.21493 0.30903 0.17986 0.29283 C 0.1743 0.28542 0.16823 0.28033 0.16163 0.27454 C 0.1599 0.27292 0.15903 0.26968 0.15712 0.26852 C 0.15486 0.2669 0.15208 0.26713 0.14948 0.26644 C 0.14566 0.2632 0.14028 0.25857 0.13594 0.25648 C 0.13194 0.25463 0.12378 0.25232 0.12378 0.25255 C 0.11962 0.24861 0.11424 0.24792 0.11007 0.24422 C 0.09496 0.23102 0.07726 0.22408 0.06163 0.21204 C 0.05365 0.20602 0.04948 0.19561 0.04045 0.1919 C 0.03698 0.18704 0.0283 0.17963 0.0283 0.17986 C 0.02413 0.16806 0.01701 0.16227 0.01007 0.15348 C 0.00885 0.14861 0.00625 0.14445 0.00555 0.13936 C 0.00278 0.12014 0.00451 0.10023 0.0026 0.08079 C 0.00226 0.07639 -0.00052 0.06852 -0.00052 0.06875 C 8.33332999999967E-007 0.05232 0.00104 0.02014 0.00104 0.02037 E">
                                      <p:cBhvr>
                                        <p:cTn id="4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76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urea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nkursów tematycznych organizowanych przez Małopolskiego Kuratora Oświaty oraz innych Kuratorów Oświat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rozumieniu z Małopolskim Kuratorem Oświaty, otrzymują odpowiedn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900000" y="36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kurs ponadwojewódzki – 12 pkt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ole tekstowe 5"/>
          <p:cNvSpPr/>
          <p:nvPr/>
        </p:nvSpPr>
        <p:spPr>
          <a:xfrm>
            <a:off x="900000" y="4508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kurs wojewódzki – 10 p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split dir="out" orient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://t3.gstatic.com/images?q=tbn:ANd9GcT1yzabGo4m6UsrriB2NyxJ4xytZUhYpPIu85G4Xb37bJP6iSiY"/>
          <p:cNvPicPr/>
          <p:nvPr/>
        </p:nvPicPr>
        <p:blipFill>
          <a:blip r:embed="rId1"/>
          <a:stretch/>
        </p:blipFill>
        <p:spPr>
          <a:xfrm>
            <a:off x="5870520" y="328608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964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ferencje, o których mowa, nie dotyczą dodatkowych kryteriów przy kwalifikowaniu do klas, w których wymagane są szczególne predyspozycje kandy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prawnościowe, zdrowot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ystyczne, uzdolni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ęzykowe itp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strips dir="l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0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1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2" dur="25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45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5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6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45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0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1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2" dur="250" autoRev="1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46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5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6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0,100,100)"/>
                                      </p:to>
                                    </p:set>
                                    <p:set>
                                      <p:cBhvr>
                                        <p:cTn id="467" dur="250" autoRev="1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racowała: Renata Gond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http://t0.gstatic.com/images?q=tbn:ANd9GcT_rMWURq3xLxd6sfq9SyqvH-G1XCYPR5iTaiD34aCZS7kLh169"/>
          <p:cNvPicPr/>
          <p:nvPr/>
        </p:nvPicPr>
        <p:blipFill>
          <a:blip r:embed="rId1"/>
          <a:stretch/>
        </p:blipFill>
        <p:spPr>
          <a:xfrm>
            <a:off x="2195640" y="1557360"/>
            <a:ext cx="4572000" cy="2938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50054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krutację przeprowadza się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następujących termina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cover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2 0.27801 C -0.36753 0.27616 -0.37031 0.27963 -0.34461 0.26782 C -0.33507 0.25486 -0.34791 0.27338 -0.3401 0.25764 C -0.33524 0.24768 -0.32743 0.23866 -0.32187 0.2294 C -0.31961 0.2206 -0.31527 0.21435 -0.31128 0.20717 C -0.3092 0.20324 -0.3052 0.19514 -0.3052 0.19537 C -0.30468 0.19236 -0.30451 0.18958 -0.30364 0.18703 C -0.30295 0.18541 -0.30138 0.18449 -0.30069 0.18287 C -0.29132 0.15764 -0.30659 0.18981 -0.29618 0.16875 C -0.29461 0.16088 -0.2934 0.15532 -0.2901 0.14861 C -0.28871 0.13912 -0.28715 0.13287 -0.28402 0.1243 C -0.28246 0.10949 -0.28038 0.09444 -0.27795 0.07986 C -0.27708 0.07407 -0.27517 0.07129 -0.27343 0.06574 C -0.26979 0.0544 -0.27413 0.06504 -0.27031 0.04953 C -0.26736 0.03796 -0.26302 0.02662 -0.25972 0.01528 C -0.25416 -0.00371 -0.2493 -0.02292 -0.2401 -0.03935 C -0.23593 -0.05509 -0.24218 -0.03449 -0.23402 -0.05139 C -0.22934 -0.06111 -0.22569 -0.07338 -0.22187 -0.0838 C -0.21996 -0.08889 -0.21996 -0.09722 -0.21736 -0.10185 C -0.2151 -0.10579 -0.21319 -0.11042 -0.20972 -0.11204 C -0.19861 -0.11713 -0.18958 -0.12662 -0.17951 -0.13426 C -0.17274 -0.13935 -0.1651 -0.14167 -0.15816 -0.1463 C -0.15156 -0.1456 -0.14513 -0.1463 -0.13871 -0.14422 C -0.13246 -0.14236 -0.12482 -0.12847 -0.12031 -0.12408 C -0.1184 -0.12199 -0.11632 -0.11991 -0.11423 -0.11806 C -0.11128 -0.11528 -0.1052 -0.10996 -0.1052 -0.10972 C -0.10086 -0.10093 -0.0934 -0.09422 -0.08698 -0.08773 C -0.07986 -0.07292 -0.08177 -0.05417 -0.07951 -0.03727 C -0.07812 -0.01065 -0.07517 0.01227 -0.06892 0.0375 C -0.06493 0.0537 -0.06232 0.07153 -0.0552 0.08588 C -0.05243 0.09815 -0.05295 0.11273 -0.04618 0.12245 C -0.04357 0.13958 -0.03923 0.15393 -0.03559 0.17083 C -0.03316 0.18241 -0.03159 0.19653 -0.02482 0.20509 C -0.02222 0.22037 -0.02569 0.20671 -0.01892 0.21921 C -0.01753 0.22176 -0.01718 0.225 -0.01579 0.22731 C -0.01458 0.22916 -0.01267 0.22986 -0.01128 0.23148 C -0.01024 0.23264 -0.00902 0.23403 -0.00816 0.23541 C -0.00694 0.23727 -0.00642 0.23981 -0.0052 0.24143 C -0.00347 0.24398 -0.00086 0.24514 0.00087 0.24768 C 0.00556 0.25393 0.00174 0.25301 0.00695 0.25764 C 0.01164 0.2618 0.01355 0.26111 0.01754 0.26574 C 0.02032 0.26898 0.02171 0.2743 0.02518 0.27592 C 0.03334 0.27963 0.03872 0.29051 0.04636 0.29398 C 0.05296 0.29699 0.04948 0.29514 0.05695 0.30023 C 0.06598 0.29953 0.07535 0.30092 0.08421 0.29815 C 0.09844 0.29352 0.10973 0.26227 0.11754 0.24768 C 0.12066 0.23541 0.12587 0.22338 0.12952 0.21134 C 0.1323 0.20301 0.13698 0.19583 0.13872 0.18703 C 0.14115 0.17407 0.13924 0.18356 0.14184 0.17291 C 0.14289 0.16875 0.1448 0.16065 0.1448 0.16088 C 0.14584 0.14236 0.14514 0.13055 0.15226 0.1162 C 0.15417 0.10625 0.15764 0.09791 0.1599 0.08796 C 0.16198 0.07778 0.16337 0.06759 0.16598 0.05764 C 0.16511 0.03565 0.1566 -0.01366 0.175 -0.02917 C 0.17691 -0.03681 0.18282 -0.05672 0.18716 -0.05949 C 0.19566 -0.06505 0.20365 -0.07153 0.21303 -0.0757 C 0.21841 -0.075 0.22431 -0.07547 0.22969 -0.07361 C 0.23368 -0.07222 0.23959 -0.06273 0.24323 -0.05949 C 0.25035 -0.04584 0.25903 -0.0331 0.2691 -0.02315 C 0.27362 -0.01389 0.28125 -0.00672 0.28716 0.00116 C 0.28855 0.00324 0.29184 0.00717 0.29184 0.00741 C 0.2941 0.01666 0.30035 0.02245 0.30382 0.03148 C 0.30678 0.03935 0.30868 0.04791 0.31146 0.05578 C 0.31528 0.06597 0.3198 0.07546 0.32362 0.08588 C 0.32535 0.09907 0.32969 0.11065 0.33421 0.12245 C 0.33473 0.12569 0.33473 0.1294 0.33577 0.13241 C 0.33629 0.13426 0.3382 0.13472 0.33872 0.13657 C 0.34549 0.15903 0.33785 0.14699 0.3448 0.15671 C 0.34618 0.16203 0.34618 0.16782 0.34775 0.17291 C 0.34827 0.17477 0.35 0.17546 0.35087 0.17685 C 0.35973 0.19143 0.34862 0.17453 0.35539 0.18912 C 0.35712 0.19282 0.35973 0.1956 0.36146 0.19907 C 0.3632 0.20995 0.36598 0.22014 0.37049 0.2294 C 0.37414 0.24838 0.38056 0.26574 0.38872 0.28194 C 0.39323 0.30555 0.38629 0.27731 0.3948 0.29398 C 0.39601 0.29629 0.39549 0.29953 0.39636 0.30208 C 0.40122 0.31504 0.41025 0.32199 0.4191 0.32847 C 0.43143 0.33727 0.42691 0.33727 0.43577 0.34051 C 0.46094 0.35 0.43698 0.34097 0.45539 0.34653 C 0.45938 0.34768 0.46754 0.35069 0.46754 0.35092 C 0.4757 0.35787 0.48421 0.3544 0.49323 0.35069 C 0.49844 0.33009 0.50174 0.30926 0.50539 0.28796 C 0.5073 0.27639 0.50816 0.26041 0.51441 0.25162 C 0.5165 0.24375 0.5191 0.23958 0.52362 0.23356 C 0.52761 0.2125 0.52171 0.23935 0.52969 0.21736 C 0.53525 0.20231 0.52691 0.21481 0.53421 0.20509 C 0.53716 0.19352 0.54115 0.1831 0.54636 0.17291 C 0.55278 0.14491 0.57379 0.10578 0.59184 0.08796 C 0.59289 0.08588 0.59358 0.08356 0.5948 0.08194 C 0.59983 0.07523 0.59931 0.08102 0.59931 0.07592 E">
                                      <p:cBhvr>
                                        <p:cTn id="43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4 kwietnia - 25 czerw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kładanie dokumentów do wybranych szkó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sza szkoła jest obję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stemem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, wię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czniowie  klas 3 g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konują rejest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macierzysty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imnazj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pc-center.com.pl/wp-content/uploads/2010/11/dokumenty.gif"/>
          <p:cNvPicPr/>
          <p:nvPr/>
        </p:nvPicPr>
        <p:blipFill>
          <a:blip r:embed="rId1"/>
          <a:stretch/>
        </p:blipFill>
        <p:spPr>
          <a:xfrm>
            <a:off x="4788000" y="2421000"/>
            <a:ext cx="3551040" cy="37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27 czerwca 201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konywanie ewentualnych zmian w decyzji o wyborze szkoł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az 4" descr="3.jpg"/>
          <p:cNvPicPr/>
          <p:nvPr/>
        </p:nvPicPr>
        <p:blipFill>
          <a:blip r:embed="rId1"/>
          <a:stretch/>
        </p:blipFill>
        <p:spPr>
          <a:xfrm>
            <a:off x="2411280" y="3068640"/>
            <a:ext cx="4167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27 czerwca – 03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yjątkiem szkół będąc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ystemie rekrut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lektronicznej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starczanie do wybran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kół kopii świadectwa i zaświadcz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yniku egzaminu gimnazjal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cezas.com.pl/upload/kat/products/94.jpeg"/>
          <p:cNvPicPr/>
          <p:nvPr/>
        </p:nvPicPr>
        <p:blipFill>
          <a:blip r:embed="rId1"/>
          <a:stretch/>
        </p:blipFill>
        <p:spPr>
          <a:xfrm>
            <a:off x="5651640" y="1413000"/>
            <a:ext cx="2533680" cy="252072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4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głoszenie przez szkol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misje list kandydat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kwalifikowanych ora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sty niezakwalifikowany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zyjęcia do oddział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asy pierwsz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raz 3" descr="4.jpg"/>
          <p:cNvPicPr/>
          <p:nvPr/>
        </p:nvPicPr>
        <p:blipFill>
          <a:blip r:embed="rId1"/>
          <a:stretch/>
        </p:blipFill>
        <p:spPr>
          <a:xfrm>
            <a:off x="539640" y="2300400"/>
            <a:ext cx="3238560" cy="2857320"/>
          </a:xfrm>
          <a:prstGeom prst="rect">
            <a:avLst/>
          </a:prstGeom>
          <a:ln w="0">
            <a:noFill/>
          </a:ln>
        </p:spPr>
      </p:pic>
    </p:spTree>
  </p:cSld>
  <p:transition advTm="12000">
    <p:checker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Do 8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Potwierdzenie woli podjęcia nauki w danej szkole przez kandydatów zakwalifikowanych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do przyjęcia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Należy dostarczyć oryginał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świadectwa ukończenia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gimnazjum i oryginał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zaświadczenia o wynikach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egzaminu gimnazjalnego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oraz karty informacyjnej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az 3" descr="5.jpg"/>
          <p:cNvPicPr/>
          <p:nvPr/>
        </p:nvPicPr>
        <p:blipFill>
          <a:blip r:embed="rId1"/>
          <a:stretch/>
        </p:blipFill>
        <p:spPr>
          <a:xfrm>
            <a:off x="5796000" y="335772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 advTm="15000">
    <p:split dir="out" orient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37">
                                  <p:stCondLst>
                                    <p:cond delay="7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10 lipca 2014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głoszenie przez szkolne komisje list przyjętych do szkoł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3" descr="1.gif"/>
          <p:cNvPicPr/>
          <p:nvPr/>
        </p:nvPicPr>
        <p:blipFill>
          <a:blip r:embed="rId1"/>
          <a:stretch/>
        </p:blipFill>
        <p:spPr>
          <a:xfrm>
            <a:off x="2627280" y="2997360"/>
            <a:ext cx="3943440" cy="2919240"/>
          </a:xfrm>
          <a:prstGeom prst="rect">
            <a:avLst/>
          </a:prstGeom>
          <a:ln w="0">
            <a:noFill/>
          </a:ln>
        </p:spPr>
      </p:pic>
    </p:spTree>
  </p:cSld>
  <p:transition advTm="9000">
    <p:plus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9:12:34Z</dcterms:created>
  <dc:creator>Patrycja</dc:creator>
  <dc:description/>
  <dc:language>en-US</dc:language>
  <cp:lastModifiedBy>Windows User</cp:lastModifiedBy>
  <dcterms:modified xsi:type="dcterms:W3CDTF">2014-04-10T11:29:53Z</dcterms:modified>
  <cp:revision>53</cp:revision>
  <dc:subject/>
  <dc:title>REKRUTACJA DO SZKÓŁ PONADGIMNAZJALNYCH</dc:title>
</cp:coreProperties>
</file>