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50960" y="-1038240"/>
            <a:ext cx="86090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imes New Roman"/>
                <a:ea typeface="msmincho"/>
              </a:rPr>
              <a:t>NAJWAŻNIEJSZE TYPOLOGIE POSTAW RODZICIELSK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020000" y="6300720"/>
            <a:ext cx="2879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RACOWAŁ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DIA HRAPK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odzina3" descr=""/>
          <p:cNvPicPr/>
          <p:nvPr/>
        </p:nvPicPr>
        <p:blipFill>
          <a:blip r:embed=""/>
          <a:stretch/>
        </p:blipFill>
        <p:spPr>
          <a:xfrm>
            <a:off x="1079640" y="3060720"/>
            <a:ext cx="4319280" cy="3779640"/>
          </a:xfrm>
          <a:prstGeom prst="rect">
            <a:avLst/>
          </a:prstGeom>
          <a:ln w="0">
            <a:noFill/>
          </a:ln>
        </p:spPr>
      </p:pic>
      <p:pic>
        <p:nvPicPr>
          <p:cNvPr id="43" name="rodzina3" descr=""/>
          <p:cNvPicPr/>
          <p:nvPr/>
        </p:nvPicPr>
        <p:blipFill>
          <a:blip r:embed=""/>
          <a:stretch/>
        </p:blipFill>
        <p:spPr>
          <a:xfrm>
            <a:off x="1590840" y="2700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9640" y="1618920"/>
            <a:ext cx="877248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Rodzice przejawiający właściwe postawy wobec dziecka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z chęcią otaczają je troskliwą opieką, dostrzegają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i zaspokajają jego potrzeby, wykazują dużo cierpliwości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i gotowości tłumaczenia i wyjaśniania. Łatwo też nawiązują kontakt z dzieckiem. Kontakt ten jest przyjemny dla obu stron i oparty na uczuciu wzajemnej sympatii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i zrozumieniu. Są zdolni do obiektywnej oceny dziecka dzięki możliwości zachowania odpowiedniego dystansu wobec niego i akceptacji jego osoby takiej, jaką ona jest.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38" name="dzieci2" descr=""/>
          <p:cNvPicPr/>
          <p:nvPr/>
        </p:nvPicPr>
        <p:blipFill>
          <a:blip r:embed=""/>
          <a:stretch/>
        </p:blipFill>
        <p:spPr>
          <a:xfrm>
            <a:off x="6119640" y="179280"/>
            <a:ext cx="3240360" cy="2370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0720" y="1398600"/>
            <a:ext cx="504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9966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dzieci2" descr=""/>
          <p:cNvPicPr/>
          <p:nvPr/>
        </p:nvPicPr>
        <p:blipFill>
          <a:blip r:embed=""/>
          <a:stretch/>
        </p:blipFill>
        <p:spPr>
          <a:xfrm>
            <a:off x="5219640" y="360360"/>
            <a:ext cx="32400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cccccc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800" spc="-1" strike="noStrike">
                <a:solidFill>
                  <a:srgbClr val="ff9966"/>
                </a:solidFill>
                <a:latin typeface="Times New Roman"/>
              </a:rPr>
              <a:t>DZIĘKUJĘ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-343080"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9966"/>
                </a:solidFill>
                <a:latin typeface="Times New Roman"/>
              </a:rPr>
              <a:t>ZA UWAGĘ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42" name="rodzina1" descr=""/>
          <p:cNvPicPr/>
          <p:nvPr/>
        </p:nvPicPr>
        <p:blipFill>
          <a:blip r:embed=""/>
          <a:stretch/>
        </p:blipFill>
        <p:spPr>
          <a:xfrm>
            <a:off x="1400040" y="900000"/>
            <a:ext cx="5619960" cy="5450040"/>
          </a:xfrm>
          <a:prstGeom prst="rect">
            <a:avLst/>
          </a:prstGeom>
          <a:ln w="0">
            <a:noFill/>
          </a:ln>
        </p:spPr>
      </p:pic>
      <p:pic>
        <p:nvPicPr>
          <p:cNvPr id="143" name="rodzina1" descr=""/>
          <p:cNvPicPr/>
          <p:nvPr/>
        </p:nvPicPr>
        <p:blipFill>
          <a:blip r:embed=""/>
          <a:stretch/>
        </p:blipFill>
        <p:spPr>
          <a:xfrm>
            <a:off x="1800360" y="1079640"/>
            <a:ext cx="507996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98160" y="744480"/>
            <a:ext cx="5360760" cy="72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216000" indent="-216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Psychospołeczny wpływ rodziców na potomstwo ma rozległy zasięg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i oddziałuje m. in.: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na rozwój funkcji poznawczych dziecka, na jego osiągnięcia szkolne;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na ustalenie się jego równowagi uczuciowej i dojrzałości społecznej;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na formowanie obrazu samego siebie;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na stosunek do siebie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cccccc"/>
                </a:solidFill>
                <a:latin typeface="Times New Roman"/>
              </a:rPr>
              <a:t>i stosunek do grupy rówieśniczej. 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45" name="rodzina5" descr=""/>
          <p:cNvPicPr/>
          <p:nvPr/>
        </p:nvPicPr>
        <p:blipFill>
          <a:blip r:embed=""/>
          <a:stretch/>
        </p:blipFill>
        <p:spPr>
          <a:xfrm>
            <a:off x="5940360" y="3191040"/>
            <a:ext cx="3780000" cy="3288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9966"/>
                </a:solidFill>
                <a:latin typeface="Times New Roman"/>
              </a:rPr>
              <a:t>Na kształtowanie się osobowości dziecka  pierwszy </a:t>
            </a:r>
            <a:br>
              <a:rPr sz="2800"/>
            </a:br>
            <a:r>
              <a:rPr b="1" lang="pl-PL" sz="2800" spc="-1" strike="noStrike">
                <a:solidFill>
                  <a:srgbClr val="ff9966"/>
                </a:solidFill>
                <a:latin typeface="Times New Roman"/>
              </a:rPr>
              <a:t>i podstawowy wpływ wywiera rodzina, </a:t>
            </a:r>
            <a:br>
              <a:rPr sz="2800"/>
            </a:br>
            <a:r>
              <a:rPr b="1" lang="pl-PL" sz="2800" spc="-1" strike="noStrike">
                <a:solidFill>
                  <a:srgbClr val="ff9966"/>
                </a:solidFill>
                <a:latin typeface="Times New Roman"/>
              </a:rPr>
              <a:t>a przede wszystkim rodzice.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47" name="rodzina5" descr=""/>
          <p:cNvPicPr/>
          <p:nvPr/>
        </p:nvPicPr>
        <p:blipFill>
          <a:blip r:embed=""/>
          <a:stretch/>
        </p:blipFill>
        <p:spPr>
          <a:xfrm>
            <a:off x="5940360" y="2519280"/>
            <a:ext cx="39481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0720" y="360360"/>
            <a:ext cx="8772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-34308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Times New Roman"/>
              </a:rPr>
              <a:t>Postawę rodzicielską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 można określić jako występującą u rodziców tendencję do odczuwania dziecka, myślenia o nim i zachowania się - werbalnego lub niewerbalnego - w pewien określony sposób, wobec niego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49" name="rodzina4" descr=""/>
          <p:cNvPicPr/>
          <p:nvPr/>
        </p:nvPicPr>
        <p:blipFill>
          <a:blip r:embed=""/>
          <a:stretch/>
        </p:blipFill>
        <p:spPr>
          <a:xfrm>
            <a:off x="2519280" y="3780000"/>
            <a:ext cx="4500720" cy="3060360"/>
          </a:xfrm>
          <a:prstGeom prst="rect">
            <a:avLst/>
          </a:prstGeom>
          <a:ln w="0">
            <a:noFill/>
          </a:ln>
        </p:spPr>
      </p:pic>
      <p:pic>
        <p:nvPicPr>
          <p:cNvPr id="50" name="rodzina4" descr=""/>
          <p:cNvPicPr/>
          <p:nvPr/>
        </p:nvPicPr>
        <p:blipFill>
          <a:blip r:embed=""/>
          <a:stretch/>
        </p:blipFill>
        <p:spPr>
          <a:xfrm>
            <a:off x="2879640" y="360036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8387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e6e6e6"/>
                </a:solidFill>
                <a:latin typeface="Times New Roman"/>
              </a:rPr>
              <a:t>Każda postawa zawiera trzy elementy – składniki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966"/>
                </a:solidFill>
                <a:latin typeface="Times New Roman"/>
              </a:rPr>
              <a:t>myślow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e6e6e6"/>
                </a:solidFill>
                <a:latin typeface="Times New Roman"/>
              </a:rPr>
              <a:t>(np. to taki miły chłopiec)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966"/>
                </a:solidFill>
                <a:latin typeface="Times New Roman"/>
              </a:rPr>
              <a:t>uczuciow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e6e6e6"/>
                </a:solidFill>
                <a:latin typeface="Times New Roman"/>
              </a:rPr>
              <a:t>(np. radość, miłość)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966"/>
                </a:solidFill>
                <a:latin typeface="Times New Roman"/>
              </a:rPr>
              <a:t>element działani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e6e6e6"/>
                </a:solidFill>
                <a:latin typeface="Times New Roman"/>
              </a:rPr>
              <a:t>( np. przytulanie dziecka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3" name="rodzina2" descr=""/>
          <p:cNvPicPr/>
          <p:nvPr/>
        </p:nvPicPr>
        <p:blipFill>
          <a:blip r:embed=""/>
          <a:stretch/>
        </p:blipFill>
        <p:spPr>
          <a:xfrm>
            <a:off x="6480000" y="2160720"/>
            <a:ext cx="2718000" cy="3462120"/>
          </a:xfrm>
          <a:prstGeom prst="rect">
            <a:avLst/>
          </a:prstGeom>
          <a:ln w="0">
            <a:noFill/>
          </a:ln>
        </p:spPr>
      </p:pic>
      <p:pic>
        <p:nvPicPr>
          <p:cNvPr id="54" name="rodzina2" descr=""/>
          <p:cNvPicPr/>
          <p:nvPr/>
        </p:nvPicPr>
        <p:blipFill>
          <a:blip r:embed=""/>
          <a:stretch/>
        </p:blipFill>
        <p:spPr>
          <a:xfrm>
            <a:off x="5560920" y="900000"/>
            <a:ext cx="3978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088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431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6e6e6"/>
                </a:solidFill>
                <a:latin typeface="Times New Roman"/>
              </a:rPr>
              <a:t>właściwe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stwarzające odpowiednie warunki psychospołeczne  dla prawidłowego rozwoju dziecka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431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6e6e6"/>
                </a:solidFill>
                <a:latin typeface="Times New Roman"/>
              </a:rPr>
              <a:t>niewłaściwe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pływające ujemnie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na kształtowanie się osobowości dziecka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79640" y="1079640"/>
            <a:ext cx="66592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66"/>
                </a:solidFill>
                <a:latin typeface="Times New Roman"/>
              </a:rPr>
              <a:t>Postawy rodzicielskie mogą by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dziecko_rodzic_przemoc_" descr=""/>
          <p:cNvPicPr/>
          <p:nvPr/>
        </p:nvPicPr>
        <p:blipFill>
          <a:blip r:embed=""/>
          <a:stretch/>
        </p:blipFill>
        <p:spPr>
          <a:xfrm>
            <a:off x="6119640" y="3780000"/>
            <a:ext cx="1982880" cy="2879640"/>
          </a:xfrm>
          <a:prstGeom prst="rect">
            <a:avLst/>
          </a:prstGeom>
          <a:ln w="0">
            <a:noFill/>
          </a:ln>
        </p:spPr>
      </p:pic>
      <p:pic>
        <p:nvPicPr>
          <p:cNvPr id="59" name="rodzina6" descr=""/>
          <p:cNvPicPr/>
          <p:nvPr/>
        </p:nvPicPr>
        <p:blipFill>
          <a:blip r:embed=""/>
          <a:stretch/>
        </p:blipFill>
        <p:spPr>
          <a:xfrm>
            <a:off x="1758960" y="4140360"/>
            <a:ext cx="2381400" cy="2457360"/>
          </a:xfrm>
          <a:prstGeom prst="rect">
            <a:avLst/>
          </a:prstGeom>
          <a:ln w="0">
            <a:noFill/>
          </a:ln>
        </p:spPr>
      </p:pic>
      <p:pic>
        <p:nvPicPr>
          <p:cNvPr id="60" name="rodzina6" descr=""/>
          <p:cNvPicPr/>
          <p:nvPr/>
        </p:nvPicPr>
        <p:blipFill>
          <a:blip r:embed=""/>
          <a:stretch/>
        </p:blipFill>
        <p:spPr>
          <a:xfrm>
            <a:off x="1800360" y="4140360"/>
            <a:ext cx="2519280" cy="2700000"/>
          </a:xfrm>
          <a:prstGeom prst="rect">
            <a:avLst/>
          </a:prstGeom>
          <a:ln w="0">
            <a:noFill/>
          </a:ln>
        </p:spPr>
      </p:pic>
      <p:pic>
        <p:nvPicPr>
          <p:cNvPr id="61" name="dziecko_rodzic_przemoc_" descr=""/>
          <p:cNvPicPr/>
          <p:nvPr/>
        </p:nvPicPr>
        <p:blipFill>
          <a:blip r:embed=""/>
          <a:stretch/>
        </p:blipFill>
        <p:spPr>
          <a:xfrm>
            <a:off x="6141960" y="3780000"/>
            <a:ext cx="2317680" cy="30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79640" y="1079640"/>
            <a:ext cx="5759280" cy="575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0" y="2340000"/>
            <a:ext cx="3240000" cy="3240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240000"/>
            <a:ext cx="143964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1079640"/>
            <a:ext cx="1800" cy="12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519280"/>
            <a:ext cx="1800360" cy="126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580000" y="2338560"/>
            <a:ext cx="1619280" cy="1442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3240000"/>
            <a:ext cx="179280" cy="360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19280" y="5038200"/>
            <a:ext cx="1079640" cy="54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68000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3875040"/>
            <a:ext cx="900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HŁÓ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3875040"/>
            <a:ext cx="900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IEPŁ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60720" y="1800360"/>
            <a:ext cx="1619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miernie wymagają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1800360"/>
            <a:ext cx="1800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miernie opiekuńc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700360"/>
            <a:ext cx="216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ncentracja uczuciowa na dziec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3959280"/>
            <a:ext cx="12603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dtrącają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0" y="5759280"/>
            <a:ext cx="18003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niedbują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00360" y="4680000"/>
            <a:ext cx="1260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nik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40360" y="4680000"/>
            <a:ext cx="1439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kcept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5759280"/>
            <a:ext cx="1619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ypadko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3780000"/>
            <a:ext cx="14400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chają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9966"/>
                </a:solidFill>
                <a:latin typeface="Times New Roman"/>
              </a:rPr>
              <a:t>Postawy rodzicielskie według Anny Roe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00720" y="180036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0000" y="2160720"/>
            <a:ext cx="1440" cy="3779640"/>
          </a:xfrm>
          <a:prstGeom prst="line">
            <a:avLst/>
          </a:prstGeom>
          <a:ln w="936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594036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95928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4140360"/>
            <a:ext cx="4140000" cy="1440"/>
          </a:xfrm>
          <a:prstGeom prst="line">
            <a:avLst/>
          </a:prstGeom>
          <a:ln w="936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0360" y="3959280"/>
            <a:ext cx="36072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00360" y="1260360"/>
            <a:ext cx="2160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WŁAD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Posiad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3897360"/>
            <a:ext cx="18003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WROG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Odrzuc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389736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MIŁ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Akcept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6300720"/>
            <a:ext cx="19792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Swob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40360" y="2700360"/>
            <a:ext cx="360360" cy="179280"/>
          </a:xfrm>
          <a:prstGeom prst="rightArrow">
            <a:avLst>
              <a:gd name="adj1" fmla="val 50000"/>
              <a:gd name="adj2" fmla="val 502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00720" y="3060720"/>
            <a:ext cx="360360" cy="179280"/>
          </a:xfrm>
          <a:prstGeom prst="rightArrow">
            <a:avLst>
              <a:gd name="adj1" fmla="val 50000"/>
              <a:gd name="adj2" fmla="val 502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59280" y="3419640"/>
            <a:ext cx="360360" cy="179280"/>
          </a:xfrm>
          <a:prstGeom prst="rightArrow">
            <a:avLst>
              <a:gd name="adj1" fmla="val 50000"/>
              <a:gd name="adj2" fmla="val 502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80000" y="2533680"/>
            <a:ext cx="2519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Nadmierne chroni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2894040"/>
            <a:ext cx="28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Chroniące pobłaż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3252960"/>
            <a:ext cx="2519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Nadmierne pobłaż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00360" y="2700360"/>
            <a:ext cx="360360" cy="179280"/>
          </a:xfrm>
          <a:prstGeom prst="leftArrow">
            <a:avLst>
              <a:gd name="adj1" fmla="val 50000"/>
              <a:gd name="adj2" fmla="val 502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0720" y="3240000"/>
            <a:ext cx="360360" cy="179640"/>
          </a:xfrm>
          <a:prstGeom prst="leftArrow">
            <a:avLst>
              <a:gd name="adj1" fmla="val 50000"/>
              <a:gd name="adj2" fmla="val 5015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2519280"/>
            <a:ext cx="23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Autorytatywne dyktators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060720"/>
            <a:ext cx="23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Żądające przeciwstawianie s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4859280"/>
            <a:ext cx="360360" cy="179280"/>
          </a:xfrm>
          <a:prstGeom prst="rightArrow">
            <a:avLst>
              <a:gd name="adj1" fmla="val 50000"/>
              <a:gd name="adj2" fmla="val 502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5400720"/>
            <a:ext cx="360360" cy="179280"/>
          </a:xfrm>
          <a:prstGeom prst="rightArrow">
            <a:avLst>
              <a:gd name="adj1" fmla="val 50000"/>
              <a:gd name="adj2" fmla="val 502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9640" y="4859280"/>
            <a:ext cx="18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Współdział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59280" y="5400720"/>
            <a:ext cx="23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Uznanie p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60720" y="4680000"/>
            <a:ext cx="360360" cy="179280"/>
          </a:xfrm>
          <a:prstGeom prst="leftArrow">
            <a:avLst>
              <a:gd name="adj1" fmla="val 50000"/>
              <a:gd name="adj2" fmla="val 502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5040360"/>
            <a:ext cx="360360" cy="179280"/>
          </a:xfrm>
          <a:prstGeom prst="leftArrow">
            <a:avLst>
              <a:gd name="adj1" fmla="val 50000"/>
              <a:gd name="adj2" fmla="val 502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5400720"/>
            <a:ext cx="360360" cy="179280"/>
          </a:xfrm>
          <a:prstGeom prst="leftArrow">
            <a:avLst>
              <a:gd name="adj1" fmla="val 50000"/>
              <a:gd name="adj2" fmla="val 502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4680000"/>
            <a:ext cx="18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Zaniedby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5040360"/>
            <a:ext cx="14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Obojęt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5400720"/>
            <a:ext cx="18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99ff"/>
                </a:solidFill>
                <a:latin typeface="Arial"/>
              </a:rPr>
              <a:t>Luźny stosu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0960" y="87480"/>
            <a:ext cx="860904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9966"/>
                </a:solidFill>
                <a:latin typeface="Times New Roman"/>
                <a:ea typeface="msmincho"/>
              </a:rPr>
              <a:t>Model zachowania macierzyńskiego </a:t>
            </a:r>
            <a:br>
              <a:rPr sz="2800"/>
            </a:br>
            <a:r>
              <a:rPr b="1" lang="pl-PL" sz="2800" spc="-1" strike="noStrike">
                <a:solidFill>
                  <a:srgbClr val="ff9966"/>
                </a:solidFill>
                <a:latin typeface="Times New Roman"/>
                <a:ea typeface="msmincho"/>
              </a:rPr>
              <a:t>według Schaef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00360" y="1800360"/>
            <a:ext cx="4500720" cy="4319280"/>
          </a:xfrm>
          <a:prstGeom prst="roundRect">
            <a:avLst>
              <a:gd name="adj" fmla="val 3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19640" y="3240000"/>
            <a:ext cx="1260360" cy="126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440000"/>
            <a:ext cx="1979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ODTRĄC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1362240"/>
            <a:ext cx="1979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NADMIER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WYMAG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60360" y="6119640"/>
            <a:ext cx="19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UNIK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6041880"/>
            <a:ext cx="19796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NADMIER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ffcc99"/>
                </a:solidFill>
                <a:latin typeface="Arial"/>
              </a:rPr>
              <a:t>CHRONI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00360" y="4317840"/>
            <a:ext cx="1800360" cy="180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397480" y="4317840"/>
            <a:ext cx="1803600" cy="180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397480" y="1800360"/>
            <a:ext cx="1803600" cy="16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1800360"/>
            <a:ext cx="1800360" cy="16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60720" y="2340000"/>
            <a:ext cx="1079640" cy="900000"/>
          </a:xfrm>
          <a:prstGeom prst="vertic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9640" y="2700360"/>
            <a:ext cx="1800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KCEPT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680000"/>
            <a:ext cx="1079640" cy="900000"/>
          </a:xfrm>
          <a:prstGeom prst="vertic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0720" y="4680000"/>
            <a:ext cx="1079640" cy="900000"/>
          </a:xfrm>
          <a:prstGeom prst="vertic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2340000"/>
            <a:ext cx="1079640" cy="900000"/>
          </a:xfrm>
          <a:prstGeom prst="vertic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2519280"/>
            <a:ext cx="19796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ZNA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5040360"/>
            <a:ext cx="234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PÓŁDZIAŁ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00720" y="4859280"/>
            <a:ext cx="14396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9966"/>
                </a:solidFill>
                <a:latin typeface="Times New Roman"/>
                <a:ea typeface="msmincho"/>
              </a:rPr>
              <a:t>Model postaw rodzicielskich właściwych i niewłaściwych (opracowany w Pols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Times New Roman"/>
              </a:rPr>
              <a:t>JAK REAGUJĄ RODZICE </a:t>
            </a:r>
            <a:br>
              <a:rPr sz="2800"/>
            </a:br>
            <a:r>
              <a:rPr b="1" lang="en-US" sz="2800" spc="-1" strike="noStrike">
                <a:solidFill>
                  <a:srgbClr val="ff9966"/>
                </a:solidFill>
                <a:latin typeface="Times New Roman"/>
              </a:rPr>
              <a:t>O ODMIENNYCH TYPACH POSTAW ?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6800" y="1440000"/>
            <a:ext cx="87724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Uczeń otrzymuje ocenę niedostateczną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431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99"/>
                </a:solidFill>
                <a:latin typeface="Times New Roman"/>
              </a:rPr>
              <a:t>postawa nadmiernie chroniąca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przypisywanie winy nauczycielowi,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431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99"/>
                </a:solidFill>
                <a:latin typeface="Times New Roman"/>
              </a:rPr>
              <a:t>postawa nadmiernie wymagająca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przypisywanie winy zawsze dziecku bez wnikania jak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o się stało, czynienie wymówek, zaostrzanie dotychczasowych rygorów i ograniczeń,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431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99"/>
                </a:solidFill>
                <a:latin typeface="Times New Roman"/>
              </a:rPr>
              <a:t>postawa odrzucająca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dziecko dostaje lanie, a nawet zapowiedź, że zostanie oddane do zakładu, bo rodzice już go mają dosyć,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431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99"/>
                </a:solidFill>
                <a:latin typeface="Times New Roman"/>
              </a:rPr>
              <a:t>postawa unikająca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rodzice nawet nie zajrzą do dzienniczka, bo to co dziej się z dzieckiem  w szkole, niewiele ich interesuj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6" name="szkolne-problemy-zle-oceny-na-semestr_185_2" descr=""/>
          <p:cNvPicPr/>
          <p:nvPr/>
        </p:nvPicPr>
        <p:blipFill>
          <a:blip r:embed=""/>
          <a:stretch/>
        </p:blipFill>
        <p:spPr>
          <a:xfrm>
            <a:off x="7559640" y="179280"/>
            <a:ext cx="21607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9:33:17Z</dcterms:created>
  <dc:creator/>
  <dc:description>Pomarańczowy tytuł na granatowym tle</dc:description>
  <dc:language>en-US</dc:language>
  <cp:lastModifiedBy/>
  <dcterms:modified xsi:type="dcterms:W3CDTF">2010-03-17T19:29:40Z</dcterms:modified>
  <cp:revision>62</cp:revision>
  <dc:subject/>
  <dc:title>Granat</dc:title>
</cp:coreProperties>
</file>