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6.jpeg" ContentType="image/jpeg"/>
  <Override PartName="/ppt/media/image7.gif" ContentType="image/gif"/>
  <Override PartName="/ppt/media/image8.png" ContentType="image/png"/>
  <Override PartName="/ppt/media/image28.gif" ContentType="image/gif"/>
  <Override PartName="/ppt/media/image29.gif" ContentType="image/gif"/>
  <Override PartName="/ppt/media/image9.png" ContentType="image/png"/>
  <Override PartName="/ppt/media/image14.png" ContentType="image/png"/>
  <Override PartName="/ppt/media/image11.gif" ContentType="image/gif"/>
  <Override PartName="/ppt/media/image15.png" ContentType="image/png"/>
  <Override PartName="/ppt/media/image12.gif" ContentType="image/gif"/>
  <Override PartName="/ppt/media/image30.jpeg" ContentType="image/jpeg"/>
  <Override PartName="/ppt/media/image16.png" ContentType="image/png"/>
  <Override PartName="/ppt/media/image13.gif" ContentType="image/gif"/>
  <Override PartName="/ppt/media/image6.png" ContentType="image/png"/>
  <Override PartName="/ppt/media/image4.png" ContentType="image/png"/>
  <Override PartName="/ppt/media/image31.gif" ContentType="image/gif"/>
  <Override PartName="/ppt/media/image1.gif" ContentType="image/gif"/>
  <Override PartName="/ppt/media/image3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17.png" ContentType="image/png"/>
  <Override PartName="/ppt/media/image18.png" ContentType="image/png"/>
  <Override PartName="/ppt/media/image19.png" ContentType="image/png"/>
  <Override PartName="/ppt/media/image21.png" ContentType="image/png"/>
  <Override PartName="/ppt/media/image20.gif" ContentType="image/gif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196560"/>
            <a:ext cx="7770960" cy="60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196560"/>
            <a:ext cx="7770960" cy="60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5360" cy="4875120"/>
            <a:chOff x="0" y="0"/>
            <a:chExt cx="8685360" cy="4875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5120"/>
            </a:xfrm>
            <a:custGeom>
              <a:avLst/>
              <a:gdLst>
                <a:gd name="textAreaLeft" fmla="*/ 360 w 609480"/>
                <a:gd name="textAreaRight" fmla="*/ 609120 w 609480"/>
                <a:gd name="textAreaTop" fmla="*/ 360 h 4875120"/>
                <a:gd name="textAreaBottom" fmla="*/ 4874760 h 4875120"/>
              </a:gdLst>
              <a:ahLst/>
              <a:rect l="textAreaLeft" t="textAreaTop" r="textAreaRight" b="textAreaBottom"/>
              <a:pathLst>
                <a:path w="21600" h="172685">
                  <a:moveTo>
                    <a:pt x="56" y="0"/>
                  </a:moveTo>
                  <a:arcTo wR="56" hR="56" stAng="16200000" swAng="-5400000"/>
                  <a:lnTo>
                    <a:pt x="0" y="172629"/>
                  </a:lnTo>
                  <a:arcTo wR="56" hR="56" stAng="10800000" swAng="-5400000"/>
                  <a:lnTo>
                    <a:pt x="21544" y="172685"/>
                  </a:lnTo>
                  <a:arcTo wR="56" hR="56" stAng="5400000" swAng="-5400000"/>
                  <a:lnTo>
                    <a:pt x="21600" y="56"/>
                  </a:lnTo>
                  <a:arcTo wR="56" hR="56" stAng="0" swAng="-5400000"/>
                  <a:close/>
                </a:path>
              </a:pathLst>
            </a:cu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6960"/>
              <a:ext cx="8304480" cy="180720"/>
              <a:chOff x="380880" y="1416960"/>
              <a:chExt cx="8304480" cy="180720"/>
            </a:xfrm>
          </p:grpSpPr>
          <p:sp>
            <p:nvSpPr>
              <p:cNvPr id="3" name=""/>
              <p:cNvSpPr/>
              <p:nvPr/>
            </p:nvSpPr>
            <p:spPr>
              <a:xfrm>
                <a:off x="6856560" y="1416960"/>
                <a:ext cx="1828440" cy="180720"/>
              </a:xfrm>
              <a:prstGeom prst="roundRect">
                <a:avLst>
                  <a:gd name="adj" fmla="val 875"/>
                </a:avLst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2200"/>
                <a:ext cx="8304480" cy="108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760960" cy="5942160"/>
            <a:chOff x="0" y="0"/>
            <a:chExt cx="8760960" cy="594216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1752480" cy="4876920"/>
            </a:xfrm>
            <a:custGeom>
              <a:avLst/>
              <a:gdLst>
                <a:gd name="textAreaLeft" fmla="*/ 360 w 1752480"/>
                <a:gd name="textAreaRight" fmla="*/ 1752120 w 1752480"/>
                <a:gd name="textAreaTop" fmla="*/ 360 h 4876920"/>
                <a:gd name="textAreaBottom" fmla="*/ 4876560 h 4876920"/>
              </a:gdLst>
              <a:ahLst/>
              <a:rect l="textAreaLeft" t="textAreaTop" r="textAreaRight" b="textAreaBottom"/>
              <a:pathLst>
                <a:path w="21600" h="60102">
                  <a:moveTo>
                    <a:pt x="19" y="0"/>
                  </a:moveTo>
                  <a:arcTo wR="19" hR="19" stAng="16200000" swAng="-5400000"/>
                  <a:lnTo>
                    <a:pt x="0" y="60083"/>
                  </a:lnTo>
                  <a:arcTo wR="19" hR="19" stAng="10800000" swAng="-5400000"/>
                  <a:lnTo>
                    <a:pt x="21581" y="60102"/>
                  </a:lnTo>
                  <a:arcTo wR="19" hR="19" stAng="5400000" swAng="-5400000"/>
                  <a:lnTo>
                    <a:pt x="21600" y="19"/>
                  </a:lnTo>
                  <a:arcTo wR="19" hR="19" stAng="0" swAng="-5400000"/>
                  <a:close/>
                </a:path>
              </a:pathLst>
            </a:cu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0" y="3505320"/>
              <a:ext cx="8760960" cy="2436840"/>
              <a:chOff x="0" y="3505320"/>
              <a:chExt cx="8760960" cy="2436840"/>
            </a:xfrm>
          </p:grpSpPr>
          <p:sp>
            <p:nvSpPr>
              <p:cNvPr id="49" name=""/>
              <p:cNvSpPr/>
              <p:nvPr/>
            </p:nvSpPr>
            <p:spPr>
              <a:xfrm>
                <a:off x="990360" y="3505320"/>
                <a:ext cx="7770600" cy="2436840"/>
              </a:xfrm>
              <a:prstGeom prst="roundRect">
                <a:avLst>
                  <a:gd name="adj" fmla="val 65"/>
                </a:avLst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037880" y="3733560"/>
                <a:ext cx="7646760" cy="2136960"/>
              </a:xfrm>
              <a:prstGeom prst="roundRect">
                <a:avLst>
                  <a:gd name="adj" fmla="val 74"/>
                </a:avLst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4875840"/>
                <a:ext cx="990360" cy="108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35040" y="533520"/>
              <a:ext cx="8075520" cy="303120"/>
              <a:chOff x="635040" y="533520"/>
              <a:chExt cx="8075520" cy="303120"/>
            </a:xfrm>
          </p:grpSpPr>
          <p:sp>
            <p:nvSpPr>
              <p:cNvPr id="53" name=""/>
              <p:cNvSpPr/>
              <p:nvPr/>
            </p:nvSpPr>
            <p:spPr>
              <a:xfrm>
                <a:off x="6272280" y="533520"/>
                <a:ext cx="2437920" cy="303120"/>
              </a:xfrm>
              <a:prstGeom prst="roundRect">
                <a:avLst>
                  <a:gd name="adj" fmla="val 519"/>
                </a:avLst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5040" y="685080"/>
                <a:ext cx="8075520" cy="108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"/>
          <p:cNvSpPr/>
          <p:nvPr/>
        </p:nvSpPr>
        <p:spPr>
          <a:xfrm>
            <a:off x="91296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796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3.png"/><Relationship Id="rId4" Type="http://schemas.openxmlformats.org/officeDocument/2006/relationships/image" Target="../media/image13.gif"/><Relationship Id="rId5" Type="http://schemas.openxmlformats.org/officeDocument/2006/relationships/image" Target="../media/image14.png"/><Relationship Id="rId6" Type="http://schemas.openxmlformats.org/officeDocument/2006/relationships/image" Target="../media/image9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Splash"/>
              </a:rPr>
              <a:t>Weihnachten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pl-PL" sz="2800" spc="-1" strike="noStrike">
                <a:solidFill>
                  <a:srgbClr val="000000"/>
                </a:solidFill>
                <a:latin typeface="Splash"/>
              </a:rPr>
              <a:t>in den</a:t>
            </a:r>
            <a:r>
              <a:rPr b="1" lang="de-DE" sz="2800" spc="-1" strike="noStrike">
                <a:solidFill>
                  <a:srgbClr val="000000"/>
                </a:solidFill>
                <a:latin typeface="Splash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Splash"/>
              </a:rPr>
              <a:t>deutschsprachig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Splash"/>
              </a:rPr>
              <a:t>  </a:t>
            </a:r>
            <a:r>
              <a:rPr b="1" lang="pl-PL" sz="2800" spc="-1" strike="noStrike">
                <a:solidFill>
                  <a:srgbClr val="000000"/>
                </a:solidFill>
                <a:latin typeface="Splash"/>
              </a:rPr>
              <a:t>L</a:t>
            </a:r>
            <a:r>
              <a:rPr b="1" lang="de-DE" sz="2800" spc="-1" strike="noStrike">
                <a:solidFill>
                  <a:srgbClr val="000000"/>
                </a:solidFill>
                <a:latin typeface="Splash"/>
              </a:rPr>
              <a:t>änd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6093000"/>
            <a:ext cx="87487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zentację przygotował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r Katarzyna Ful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2076480" cy="2600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16000" y="4076640"/>
            <a:ext cx="1457280" cy="1486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804000" y="836640"/>
            <a:ext cx="199080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Splash"/>
              </a:rPr>
              <a:t>Ein paar Worte 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1631880" cy="1800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916360" y="2126880"/>
            <a:ext cx="525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plash"/>
              </a:rPr>
              <a:t>Ich wünsche schöne Weihnachtstage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Splash"/>
              </a:rPr>
              <a:t>das ist doch klar und ohne Frage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Splash"/>
              </a:rPr>
              <a:t>Bei Tannenduft und Kerzenschein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Splash"/>
              </a:rPr>
              <a:t>möge alles friedlich und fröhlich sei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plash"/>
              </a:rPr>
              <a:t>Frohe Weihnacht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plash"/>
              </a:rPr>
              <a:t>und ein gutes neues Jahr!</a:t>
            </a:r>
            <a:r>
              <a:rPr b="0" lang="en-GB" sz="1800" spc="-1" strike="noStrike">
                <a:solidFill>
                  <a:srgbClr val="ffffff"/>
                </a:solidFill>
                <a:latin typeface="Splash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plash"/>
              </a:rPr>
              <a:t>W</a:t>
            </a:r>
            <a:r>
              <a:rPr b="0" lang="de-DE" sz="1800" spc="-1" strike="noStrike">
                <a:solidFill>
                  <a:srgbClr val="000000"/>
                </a:solidFill>
                <a:latin typeface="Splash"/>
              </a:rPr>
              <a:t>üns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plash"/>
              </a:rPr>
              <a:t>Katarzyna Ful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258920" y="4941720"/>
            <a:ext cx="6402240" cy="1513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7691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r">
              <a:lnSpc>
                <a:spcPct val="93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plash"/>
              </a:rPr>
              <a:t>Zauber des Weihnachtsfe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plash"/>
              </a:rPr>
              <a:t>Symbolik und Bräu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plash"/>
              </a:rPr>
              <a:t>Die schönsten Weihnachtsli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plash"/>
              </a:rPr>
              <a:t>Weihnachtsgebä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plash"/>
              </a:rPr>
              <a:t>Weihnachtsmär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plash"/>
              </a:rPr>
              <a:t>Weihnachten in der Poe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plash"/>
              </a:rPr>
              <a:t>Weihnachtswüns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3357720"/>
            <a:ext cx="60501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5688000" cy="1152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Splash"/>
              </a:rPr>
              <a:t>Zauber des Weihnachtsfest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4952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ook Antiqua"/>
              </a:rPr>
              <a:t>Das </a:t>
            </a:r>
            <a:r>
              <a:rPr b="1" lang="en-GB" sz="1800" spc="-1" strike="noStrike">
                <a:solidFill>
                  <a:srgbClr val="000000"/>
                </a:solidFill>
                <a:latin typeface="Book Antiqua"/>
              </a:rPr>
              <a:t>Weihnachtsfest</a:t>
            </a:r>
            <a:r>
              <a:rPr b="1" lang="en-GB" sz="1800" spc="-1" strike="noStrike">
                <a:solidFill>
                  <a:srgbClr val="000000"/>
                </a:solidFill>
                <a:latin typeface="Book Antiqua"/>
              </a:rPr>
              <a:t> ist das schönste Fest des Jahres, es ist das Geburtstag</a:t>
            </a:r>
            <a:r>
              <a:rPr b="1" lang="pl-PL" sz="1800" spc="-1" strike="noStrike">
                <a:solidFill>
                  <a:srgbClr val="000000"/>
                </a:solidFill>
                <a:latin typeface="Book Antiqua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Book Antiqua"/>
              </a:rPr>
              <a:t>fest Jes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ook Antiqua"/>
              </a:rPr>
              <a:t>Die Vorbereitungen beginnen schon im Advent, vier Wochen vor Weihnachten. </a:t>
            </a:r>
            <a:r>
              <a:rPr b="1" lang="pl-PL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ook Antiqua"/>
              </a:rPr>
              <a:t>In dieser Zeit bastelt oder kauft jede Familie einen Adventskranz mit vier Kerzen und die Kinder bekommen am </a:t>
            </a:r>
            <a:r>
              <a:rPr b="1" lang="pl-PL" sz="1800" spc="-1" strike="noStrike">
                <a:solidFill>
                  <a:srgbClr val="000000"/>
                </a:solidFill>
                <a:latin typeface="Book Antiqua"/>
              </a:rPr>
              <a:t>             </a:t>
            </a:r>
            <a:r>
              <a:rPr b="1" lang="en-GB" sz="1800" spc="-1" strike="noStrike">
                <a:solidFill>
                  <a:srgbClr val="000000"/>
                </a:solidFill>
                <a:latin typeface="Book Antiqua"/>
              </a:rPr>
              <a:t>1. (ersten) Dezember einen Adventskalender mit 24 Fäch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ook Antiqua"/>
              </a:rPr>
              <a:t>In der Adventszeit backt man Kuchen und lädt man die Familie zum Adventskaffee ein, oder geht man zu Besu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ook Antiqua"/>
              </a:rPr>
              <a:t>An dem Weihnachtstag wird der Weihnachtsbaum mit bunten Kugeln, Sternen und anderem Weihnachtsschmuck geschmüc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6553440" cy="436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003640" y="5516640"/>
            <a:ext cx="1224000" cy="815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732720" y="1844640"/>
            <a:ext cx="1420560" cy="1409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796000" y="3500280"/>
            <a:ext cx="954000" cy="858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443640" y="3357720"/>
            <a:ext cx="2143080" cy="29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Splash"/>
              </a:rPr>
              <a:t>Symbolik und Bräuch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43783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plash"/>
              </a:rPr>
              <a:t>der Weihnachtsba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plash"/>
              </a:rPr>
              <a:t>Weihnachtsli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plash"/>
              </a:rPr>
              <a:t>die Krip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plash"/>
              </a:rPr>
              <a:t>der Heilige Ab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plash"/>
              </a:rPr>
              <a:t>das Christk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plash"/>
              </a:rPr>
              <a:t>der Eng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plash"/>
              </a:rPr>
              <a:t>das Weihn</a:t>
            </a:r>
            <a:r>
              <a:rPr b="0" lang="pl-PL" sz="2400" spc="-1" strike="noStrike">
                <a:solidFill>
                  <a:srgbClr val="000000"/>
                </a:solidFill>
                <a:latin typeface="Splash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Splash"/>
              </a:rPr>
              <a:t>chtsgebä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plash"/>
              </a:rPr>
              <a:t>Ker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plash"/>
              </a:rPr>
              <a:t>Gloc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plash"/>
              </a:rPr>
              <a:t>die Geschen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867280" y="1916280"/>
            <a:ext cx="1465560" cy="2187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187280" y="189000"/>
            <a:ext cx="6769440" cy="48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788000" y="2781360"/>
            <a:ext cx="952560" cy="1171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924360" y="4365720"/>
            <a:ext cx="2467080" cy="2047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 rot="19518000">
            <a:off x="5148000" y="1844280"/>
            <a:ext cx="666720" cy="600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 rot="922200">
            <a:off x="5508720" y="1557000"/>
            <a:ext cx="954000" cy="858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7236000" y="1628640"/>
            <a:ext cx="1523880" cy="1733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7164360" y="3645000"/>
            <a:ext cx="1685880" cy="1904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5435640" y="4005360"/>
            <a:ext cx="1800360" cy="1331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6012000" y="5516640"/>
            <a:ext cx="1368360" cy="1030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1763640" y="5589720"/>
            <a:ext cx="1524240" cy="1085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0033"/>
                </a:solidFill>
                <a:latin typeface="Splash"/>
              </a:rPr>
              <a:t>Die schönsten Weihnachtsliede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7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 Stille Nacht, heilige Nach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es schläft, einsam w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r das traute hochheilige Pa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lder Knabe im lockigen Ha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hlaf in himmlischer Ruh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Stille Nacht, heilige Nach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rten erst kundgemach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ch der Engel Hallelu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nt es laut von fern und na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rist, der Retter ist da!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68640" y="1599840"/>
            <a:ext cx="3817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Alle Jahre wieder kommt 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tusk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f die Erde nieder, wo d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schen si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Kehrt mit seinem Segen 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jedes Ha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ht auf allen Wegen mit 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 und a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867280" y="4869000"/>
            <a:ext cx="1944720" cy="143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6836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294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Splash"/>
              </a:rPr>
              <a:t>Weihnachtsgebäc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 rot="20041200">
            <a:off x="5329080" y="2455560"/>
            <a:ext cx="2679840" cy="3039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042920" y="2330280"/>
            <a:ext cx="3743280" cy="34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Splash"/>
              </a:rPr>
              <a:t>Weihnachtsstollen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Splash"/>
              </a:rPr>
              <a:t>Zutaten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Splash"/>
              </a:rPr>
              <a:t>   1 kg Mehl, 100 g Hef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Splash"/>
              </a:rPr>
              <a:t>   1/4 l lauwarme Milch, Salz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Splash"/>
              </a:rPr>
              <a:t>   400 - 500 g Butter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Splash"/>
              </a:rPr>
              <a:t>   150 - 200 g Zucker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Splash"/>
              </a:rPr>
              <a:t>   abgeriebene Zitronenschal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Splash"/>
              </a:rPr>
              <a:t>   75 g Zitronat, 75 g Orangea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Splash"/>
              </a:rPr>
              <a:t>   250 g Mandeln (4bittere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Splash"/>
              </a:rPr>
              <a:t>   500 g Rosinen, 125 g Korinthe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Splash"/>
              </a:rPr>
              <a:t>   1 Gläschen Ru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Splash"/>
              </a:rPr>
              <a:t>Weihnachtsmärk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4292640"/>
            <a:ext cx="1824120" cy="2189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194200" cy="1854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348000" y="2273400"/>
            <a:ext cx="2163960" cy="2414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796000" y="4653000"/>
            <a:ext cx="2338200" cy="1754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516720" y="1628640"/>
            <a:ext cx="1942920" cy="2737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0033"/>
                </a:solidFill>
                <a:latin typeface="Splash"/>
              </a:rPr>
              <a:t>Weihnachten in der Poesie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818160" cy="49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Calligraphic"/>
              </a:rPr>
              <a:t>„</a:t>
            </a:r>
            <a:r>
              <a:rPr b="1" i="1" lang="en-GB" sz="1800" spc="-1" strike="noStrike">
                <a:solidFill>
                  <a:srgbClr val="000000"/>
                </a:solidFill>
                <a:latin typeface="Calligraphic"/>
              </a:rPr>
              <a:t>Weihnachten</a:t>
            </a:r>
            <a:r>
              <a:rPr b="1" i="1" lang="pl-PL" sz="1800" spc="-1" strike="noStrike">
                <a:solidFill>
                  <a:srgbClr val="000000"/>
                </a:solidFill>
                <a:latin typeface="Calligraphic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ligraphic"/>
              </a:rPr>
              <a:t>Markt und Straßen stehn verlassen,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ligraphic"/>
              </a:rPr>
              <a:t>Still erleuchtet jedes Haus,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ligraphic"/>
              </a:rPr>
              <a:t>Sinnend geh ich durch die Gassen,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ligraphic"/>
              </a:rPr>
              <a:t>Alles sieht so festlich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ligraphic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ligraphic"/>
              </a:rPr>
              <a:t>An den Fenstern haben Fraue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ligraphic"/>
              </a:rPr>
              <a:t>Buntes Spielzeug fromm geschmück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ligraphic"/>
              </a:rPr>
              <a:t>Tausend Kindlein stehn und schauen,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ligraphic"/>
              </a:rPr>
              <a:t>Sind so wunderstill beglück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ligraphic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ligraphic"/>
              </a:rPr>
              <a:t>Und ich wandre aus den Mauer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ligraphic"/>
              </a:rPr>
              <a:t>Bis hinaus ins freie Feld,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ligraphic"/>
              </a:rPr>
              <a:t>Hehres Glänzen, heilges Schauern!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ligraphic"/>
              </a:rPr>
              <a:t>Wie so weit und still die Wel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ligraphic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ligraphic"/>
              </a:rPr>
              <a:t>Sterne hoch die Kreise schlingen,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ligraphic"/>
              </a:rPr>
              <a:t>Aus des Schnees Einsamkei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ligraphic"/>
              </a:rPr>
              <a:t>Steigts wie wunderbares Singen -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ligraphic"/>
              </a:rPr>
              <a:t>O du gnadenreiche Zei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08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GB" sz="1400" spc="-1" strike="noStrike">
                <a:solidFill>
                  <a:srgbClr val="000000"/>
                </a:solidFill>
                <a:latin typeface="Calligraphic"/>
              </a:rPr>
              <a:t>Joseph von Eichendorf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8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Calligraphic"/>
              </a:rPr>
              <a:t>(1788 - 1857)</a:t>
            </a:r>
            <a:br>
              <a:rPr sz="1400"/>
            </a:br>
            <a:r>
              <a:rPr b="0" i="1" lang="en-GB" sz="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3280" y="1599840"/>
            <a:ext cx="404352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alligraphic"/>
              </a:rPr>
              <a:t>„</a:t>
            </a:r>
            <a:r>
              <a:rPr b="1" i="1" lang="en-GB" sz="1600" spc="-1" strike="noStrike">
                <a:solidFill>
                  <a:srgbClr val="000000"/>
                </a:solidFill>
                <a:latin typeface="Calligraphic"/>
              </a:rPr>
              <a:t>Weihnachtszeit</a:t>
            </a:r>
            <a:r>
              <a:rPr b="1" i="1" lang="pl-PL" sz="1600" spc="-1" strike="noStrike">
                <a:solidFill>
                  <a:srgbClr val="000000"/>
                </a:solidFill>
                <a:latin typeface="Calligraphic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ligraphic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ligraphic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ligraphic"/>
              </a:rPr>
              <a:t>O schöne, herrliche Weihnachtszeit!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ligraphic"/>
              </a:rPr>
              <a:t>Was bringst du Lust und Fröhlichkeit!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ligraphic"/>
              </a:rPr>
              <a:t>Wenn der heilige Christ in jedem Hau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ligraphic"/>
              </a:rPr>
              <a:t>teilt seine lieben Gaben aus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ligraphic"/>
              </a:rPr>
              <a:t>Und ist das Häuschen noch so klein,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ligraphic"/>
              </a:rPr>
              <a:t>so kommt der heilige Christ hinein,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ligraphic"/>
              </a:rPr>
              <a:t>und alle sind ihm lieb wie die Seinen,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ligraphic"/>
              </a:rPr>
              <a:t>die Armen und Reichen, die Grossen und Kleinen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ligraphic"/>
              </a:rPr>
              <a:t>Der heilige Christ an alle denkt,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ligraphic"/>
              </a:rPr>
              <a:t>ein jedes wird von ihm beschenkt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ligraphic"/>
              </a:rPr>
              <a:t>Drum lasst uns freuen und dankbar sein!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ligraphic"/>
              </a:rPr>
              <a:t>Er denkt auch unser, mein und de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Calligraphic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Calligraphic"/>
              </a:rPr>
              <a:t>          </a:t>
            </a:r>
            <a:r>
              <a:rPr b="0" i="1" lang="en-GB" sz="1400" spc="-1" strike="noStrike">
                <a:solidFill>
                  <a:srgbClr val="000000"/>
                </a:solidFill>
                <a:latin typeface="Calligraphic"/>
              </a:rPr>
              <a:t>Heinrich Hoffman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Calligraphic"/>
              </a:rPr>
              <a:t>	</a:t>
            </a:r>
            <a:r>
              <a:rPr b="0" i="1" lang="pl-PL" sz="1400" spc="-1" strike="noStrike">
                <a:solidFill>
                  <a:srgbClr val="000000"/>
                </a:solidFill>
                <a:latin typeface="Calligraphic"/>
              </a:rPr>
              <a:t>	</a:t>
            </a:r>
            <a:r>
              <a:rPr b="0" i="1" lang="pl-PL" sz="1400" spc="-1" strike="noStrike">
                <a:solidFill>
                  <a:srgbClr val="000000"/>
                </a:solidFill>
                <a:latin typeface="Calligraphic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Calligraphic"/>
              </a:rPr>
              <a:t>von Fallersleben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Calligraphic"/>
              </a:rPr>
              <a:t>	</a:t>
            </a:r>
            <a:r>
              <a:rPr b="0" i="1" lang="pl-PL" sz="1400" spc="-1" strike="noStrike">
                <a:solidFill>
                  <a:srgbClr val="000000"/>
                </a:solidFill>
                <a:latin typeface="Calligraphic"/>
              </a:rPr>
              <a:t>	</a:t>
            </a:r>
            <a:r>
              <a:rPr b="0" i="1" lang="pl-PL" sz="1400" spc="-1" strike="noStrike">
                <a:solidFill>
                  <a:srgbClr val="000000"/>
                </a:solidFill>
                <a:latin typeface="Calligraphic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Calligraphic"/>
              </a:rPr>
              <a:t>            </a:t>
            </a:r>
            <a:r>
              <a:rPr b="0" i="1" lang="en-GB" sz="1400" spc="-1" strike="noStrike">
                <a:solidFill>
                  <a:srgbClr val="000000"/>
                </a:solidFill>
                <a:latin typeface="Calligraphic"/>
              </a:rPr>
              <a:t>(1798-1874)</a:t>
            </a:r>
            <a:br>
              <a:rPr sz="1400"/>
            </a:b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1368720" cy="1349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388200" y="1616040"/>
            <a:ext cx="1839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Splash"/>
              </a:rPr>
              <a:t>Weihnachtsw</a:t>
            </a:r>
            <a:r>
              <a:rPr b="0" lang="de-DE" sz="4200" spc="-1" strike="noStrike">
                <a:solidFill>
                  <a:srgbClr val="330033"/>
                </a:solidFill>
                <a:latin typeface="Splash"/>
              </a:rPr>
              <a:t>ü</a:t>
            </a:r>
            <a:r>
              <a:rPr b="0" lang="en-GB" sz="4200" spc="-1" strike="noStrike">
                <a:solidFill>
                  <a:srgbClr val="330033"/>
                </a:solidFill>
                <a:latin typeface="Splash"/>
              </a:rPr>
              <a:t>nsch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6249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plash"/>
              </a:rPr>
              <a:t>Frohe Weihn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plash"/>
              </a:rPr>
              <a:t>Ein friedvolles F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plash"/>
              </a:rPr>
              <a:t>Ein schönes Weihnachtsf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plash"/>
              </a:rPr>
              <a:t>Ein besinnliches Weihnachtsf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plash"/>
              </a:rPr>
              <a:t>Die besten Weihnachtswüns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867280" y="2133720"/>
            <a:ext cx="3057480" cy="3763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lara</cp:lastModifiedBy>
  <dcterms:modified xsi:type="dcterms:W3CDTF">2005-12-06T16:18:11Z</dcterms:modified>
  <cp:revision>23</cp:revision>
  <dc:subject/>
  <dc:title> Weihnachten</dc:title>
</cp:coreProperties>
</file>