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12.png" ContentType="image/png"/>
  <Override PartName="/ppt/media/image27.png" ContentType="image/png"/>
  <Override PartName="/ppt/media/image24.gif" ContentType="image/gif"/>
  <Override PartName="/ppt/media/image1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3.gif" ContentType="image/gif"/>
  <Override PartName="/ppt/media/image26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AA1-B397-45D8-9E81-C26A6D4A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FDD-349F-4B60-B986-4309AC31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97B-5AA6-4797-876F-E445E553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394-CC6B-4E63-993F-B3F62620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FF20-9207-42B7-A2B2-FEEFE188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63C1-6BBE-48F5-A9C0-1F8AF289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2B0D-9519-4E65-95DB-156347B9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16EF-8E7E-4247-A247-DCF3F3F7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613C-831E-4253-8461-374F5BB7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61E3-3263-4590-818E-B546C5E4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102B-73B2-40EC-8FA9-53E9489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B8A-E0A5-4852-B052-8CE0A200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BD8D-636D-4A6E-92C8-2A3DA2D5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4AC4-078F-42F3-99E7-A5F07BC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A8AA-C850-4744-BEEE-03C59474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15F7-5C68-4322-BC0E-16C7192C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761E-AB62-465E-B8D0-921C31AB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315-AFEA-481D-A49B-DB2A8097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D46-530A-4140-9981-4A0C4330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0F0-AFFB-4570-89AB-00EE06F7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46E-FB1D-46E8-9C02-00AF296E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51A-F037-422D-84A2-C4932938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127-ACE1-44D7-88CA-D7AC7409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380-E8CC-43BF-9BEA-BEDAB685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A071-4015-42C9-A19C-3E7687303F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779640" y="6308640"/>
            <a:ext cx="4876560" cy="433080"/>
            <a:chOff x="3779640" y="6308640"/>
            <a:chExt cx="4876560" cy="433080"/>
          </a:xfrm>
        </p:grpSpPr>
        <p:sp>
          <p:nvSpPr>
            <p:cNvPr id="53" name=""/>
            <p:cNvSpPr/>
            <p:nvPr/>
          </p:nvSpPr>
          <p:spPr>
            <a:xfrm flipH="1">
              <a:off x="3779280" y="6308640"/>
              <a:ext cx="4625640" cy="4312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96280" y="6308640"/>
              <a:ext cx="259920" cy="4330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936C-4C70-43CC-A437-2B2F132F36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8.gif"/><Relationship Id="rId4" Type="http://schemas.openxmlformats.org/officeDocument/2006/relationships/image" Target="../media/image1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abbe.de/zzzebra/index.asp?themaid=234&amp;titelid=1014" TargetMode="External"/><Relationship Id="rId2" Type="http://schemas.openxmlformats.org/officeDocument/2006/relationships/hyperlink" Target="http://www.labbe.de/zzzebra/index.asp?themaid=234&amp;titelid=1015" TargetMode="External"/><Relationship Id="rId3" Type="http://schemas.openxmlformats.org/officeDocument/2006/relationships/hyperlink" Target="http://www.labbe.de/zzzebra/index.asp?themaid=234&amp;titelid=1018" TargetMode="External"/><Relationship Id="rId4" Type="http://schemas.openxmlformats.org/officeDocument/2006/relationships/hyperlink" Target="http://www.labbe.de/zzzebra/index.asp?themaid=234&amp;titelid=1018" TargetMode="External"/><Relationship Id="rId5" Type="http://schemas.openxmlformats.org/officeDocument/2006/relationships/hyperlink" Target="http://www.labbe.de/zzzebra/index.asp?themaid=234&amp;titelid=1018" TargetMode="External"/><Relationship Id="rId6" Type="http://schemas.openxmlformats.org/officeDocument/2006/relationships/hyperlink" Target="http://www.labbe.de/zzzebra/index.asp?themaid=234&amp;titelid=1018" TargetMode="External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76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0" y="6308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r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atarzyn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Fular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79840" y="5392800"/>
            <a:ext cx="38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458136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Candy Sniper"/>
              </a:rPr>
              <a:t>das höchste und bedeutendst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Candy Sniper"/>
              </a:rPr>
              <a:t>Fest der Christenheit</a:t>
            </a:r>
            <a:r>
              <a:rPr b="0" lang="pl-PL" sz="2400" spc="-1" strike="noStrike">
                <a:solidFill>
                  <a:srgbClr val="663300"/>
                </a:solidFill>
                <a:latin typeface="Candy Sniper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6666"/>
                </a:solidFill>
                <a:latin typeface="Calligraphic"/>
              </a:rPr>
              <a:t>Frohe Ostern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" descr="Fröhliche"/>
          <p:cNvPicPr/>
          <p:nvPr/>
        </p:nvPicPr>
        <p:blipFill>
          <a:blip r:embed="rId1"/>
          <a:stretch/>
        </p:blipFill>
        <p:spPr>
          <a:xfrm>
            <a:off x="1116000" y="2709720"/>
            <a:ext cx="4176720" cy="884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Ostern"/>
          <p:cNvPicPr/>
          <p:nvPr/>
        </p:nvPicPr>
        <p:blipFill>
          <a:blip r:embed="rId2"/>
          <a:stretch/>
        </p:blipFill>
        <p:spPr>
          <a:xfrm>
            <a:off x="4140360" y="3573360"/>
            <a:ext cx="3889080" cy="117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692360" y="4183200"/>
            <a:ext cx="2087640" cy="199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03640" y="5013360"/>
            <a:ext cx="31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Calligraphic"/>
              </a:rPr>
              <a:t>wünsch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Bartłomiej Gi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Bartłomiej Gil"/>
              </a:rPr>
              <a:t>Katarzyna   Fula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8200" y="6329520"/>
            <a:ext cx="80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3366"/>
                </a:solidFill>
                <a:latin typeface="Arial"/>
              </a:rPr>
              <a:t>Ohne Gewähr Änderungen vorbehalten. Alle Rechte vorbehalten</a:t>
            </a:r>
            <a:r>
              <a:rPr b="0" i="1" lang="de-DE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867280" y="69228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6666"/>
                </a:solidFill>
                <a:latin typeface="Calligraphic"/>
              </a:rPr>
              <a:t>Symbolik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01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Bitstream Vera Sans"/>
              </a:rPr>
              <a:t>Zeige das Ostersymbol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Bitstream Vera Sans"/>
              </a:rPr>
              <a:t>Ostere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Bitstream Vera Sans"/>
              </a:rPr>
              <a:t>Osterha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Bitstream Vera Sans"/>
              </a:rPr>
              <a:t>Osterstrau</a:t>
            </a:r>
            <a:r>
              <a:rPr b="1" lang="de-DE" sz="1800" spc="-1" strike="noStrike">
                <a:solidFill>
                  <a:srgbClr val="003366"/>
                </a:solidFill>
                <a:latin typeface="Bitstream Vera Sans"/>
              </a:rPr>
              <a:t>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Bitstream Vera Sans"/>
              </a:rPr>
              <a:t>Osterlam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Bitstream Vera Sans"/>
              </a:rPr>
              <a:t>Osterpalm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1644480" cy="1479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11560" y="4149720"/>
            <a:ext cx="1408320" cy="230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05280" y="2421000"/>
            <a:ext cx="165420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32000" y="494172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372360" y="3860640"/>
            <a:ext cx="1641240" cy="261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651640" y="476280"/>
            <a:ext cx="15667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Calligraphic"/>
              </a:rPr>
              <a:t>Das Osterfest –</a:t>
            </a:r>
            <a:r>
              <a:rPr b="1" lang="pl-PL" sz="4400" spc="-1" strike="noStrike">
                <a:solidFill>
                  <a:srgbClr val="006666"/>
                </a:solidFill>
                <a:latin typeface="Calligraphic"/>
              </a:rPr>
              <a:t> </a:t>
            </a:r>
            <a:r>
              <a:rPr b="1" lang="pl-PL" sz="3600" spc="-1" strike="noStrike">
                <a:solidFill>
                  <a:srgbClr val="006666"/>
                </a:solidFill>
                <a:latin typeface="Calligraphic"/>
              </a:rPr>
              <a:t>ein Fest der Familie</a:t>
            </a:r>
            <a:br>
              <a:rPr sz="3600"/>
            </a:br>
            <a:r>
              <a:rPr b="1" lang="pl-PL" sz="1400" spc="-1" strike="noStrike">
                <a:solidFill>
                  <a:srgbClr val="006666"/>
                </a:solidFill>
                <a:latin typeface="Calligraphic"/>
              </a:rPr>
              <a:t>Teil 1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Das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Osterfest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 besteht aus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dem Palmsonnta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g, 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der Karwoche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und 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Auferstehungsfeier Christi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Der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Palmsonntag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 ist der Beginn der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Karwoche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. Im Mittelpunkt dieses Festtages steht die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Palmprozession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Am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Karfreitag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 versammeln sich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die Gläubigen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 in den Kirchen 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vor dem Heiligen Grab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Nach der vierzigtägigen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Fastenzeit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freuen sich alle Gläubigen auf das Osterfest. Die Feier beginnt in der Osternacht mit dem Entzünden des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Osterfeuers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. Der Pri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e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ster segnet das Feuer und entzündet das Licht für die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Osterkerze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Der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Ostersonntag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ist der wichtigste Tag an den Osterfeiertagen. Am Ostersonntag freuen sich die Christen über die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Auferstehung von Jesus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. Die Feier beginnt in der Osternacht von Karsamstag auf Ostersonntag mit einem Gottesdienst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Das Osterfest ist heute ein Fest der Familie. Man trifft sich mit der Verwand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t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schaft, um dieses Fest zu feiern. Nach dem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familiären Frühstück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suchen die Kinder im Garten oder im Haus die versteckten Eier. Diese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Ostereier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 hat natü</a:t>
            </a:r>
            <a:r>
              <a:rPr b="0" lang="pl-PL" sz="1400" spc="-1" strike="noStrike">
                <a:solidFill>
                  <a:srgbClr val="003366"/>
                </a:solidFill>
                <a:latin typeface="Bitstream Vera Sans"/>
              </a:rPr>
              <a:t>r</a:t>
            </a:r>
            <a:r>
              <a:rPr b="0" lang="de-DE" sz="1400" spc="-1" strike="noStrike">
                <a:solidFill>
                  <a:srgbClr val="003366"/>
                </a:solidFill>
                <a:latin typeface="Bitstream Vera Sans"/>
              </a:rPr>
              <a:t>lich Osterhase in der Nacht versteckt.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3366"/>
                </a:solidFill>
                <a:latin typeface="Bitstream Vera Sans"/>
              </a:rPr>
              <a:t>Quelle: Deutsch Aktuell 16</a:t>
            </a:r>
            <a:r>
              <a:rPr b="0" i="1" lang="pl-PL" sz="1000" spc="-1" strike="noStrike">
                <a:solidFill>
                  <a:srgbClr val="003366"/>
                </a:solidFill>
                <a:latin typeface="Bitstream Vera Sans"/>
              </a:rPr>
              <a:t>/</a:t>
            </a:r>
            <a:r>
              <a:rPr b="0" i="1" lang="de-DE" sz="1000" spc="-1" strike="noStrike">
                <a:solidFill>
                  <a:srgbClr val="003366"/>
                </a:solidFill>
                <a:latin typeface="Bitstream Vera Sans"/>
              </a:rPr>
              <a:t>2006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Calligraphic"/>
              </a:rPr>
              <a:t>Das Osterfest –</a:t>
            </a:r>
            <a:r>
              <a:rPr b="1" lang="pl-PL" sz="4400" spc="-1" strike="noStrike">
                <a:solidFill>
                  <a:srgbClr val="006666"/>
                </a:solidFill>
                <a:latin typeface="Calligraphic"/>
              </a:rPr>
              <a:t> </a:t>
            </a:r>
            <a:r>
              <a:rPr b="1" lang="pl-PL" sz="3600" spc="-1" strike="noStrike">
                <a:solidFill>
                  <a:srgbClr val="006666"/>
                </a:solidFill>
                <a:latin typeface="Calligraphic"/>
              </a:rPr>
              <a:t>ein Fest der Familie</a:t>
            </a:r>
            <a:br>
              <a:rPr sz="3600"/>
            </a:br>
            <a:r>
              <a:rPr b="1" lang="pl-PL" sz="1400" spc="-1" strike="noStrike">
                <a:solidFill>
                  <a:srgbClr val="006666"/>
                </a:solidFill>
                <a:latin typeface="Calligraphic"/>
              </a:rPr>
              <a:t>Teil 2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1028880" cy="495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2492280"/>
            <a:ext cx="419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Ordne zu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Der Palmsonntag beginnt 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2. Die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Christen versammeln sich in der Kirche vor dem Heiligen Grab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3. 40 Tage dauert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4. Das Osterfest beginnt mit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5. Der wichtigste Tag an den Osterfeiertagen ist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6. In der Osternacht von Karsamstag auf Ostersonntag feiert man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7. Während des Osterfestes trifft man sich mit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8. Zu Ostern suchen die Kinder 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213000"/>
            <a:ext cx="25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a.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die Fastenzei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b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der Ostersonnta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c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der En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zündung der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Osterkerz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d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am Karfreita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e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die Auferstehu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von Jesu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f. die Karwoche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g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die Osterei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h.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der Famili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20000" y="5157720"/>
            <a:ext cx="15843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6666"/>
                </a:solidFill>
                <a:latin typeface="Calligraphic"/>
              </a:rPr>
              <a:t>Osterbräuche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790560" cy="1057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588000" y="3429000"/>
            <a:ext cx="1944720" cy="10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08720" y="4508640"/>
            <a:ext cx="1028880" cy="49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2492280"/>
            <a:ext cx="75614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Gründonnerstag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– an diesem Tag muss etwas grünes auf den Tisch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kommen: Salat, Spinat, Lauch und eine Suppe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mit vielen Kräuter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 „ 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Judasfeuer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"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alles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was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man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nicht mehr braucht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wird verbrannt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um Beispiel Holzabfälle und Kerzenreste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Ostereier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gefärbte und bemalte Hühnereier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, auch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Schokoladeneier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Man findet diese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zur Osterzeit an vielen Bäumen und Sträuchern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</a:rPr>
              <a:t>Palmbuschen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Am Sonntag vor Ostern ist es Tradition Palmbuschen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zu verschenken.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 Das sind kleine Sträußchen aus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eidenkätzchenzweigen oder aus Buchsbaum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516720" y="2421000"/>
            <a:ext cx="1008000" cy="89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588000" y="5157720"/>
          <a:ext cx="1246320" cy="15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5157720"/>
                    <a:ext cx="12463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6666"/>
                </a:solidFill>
                <a:latin typeface="Calligraphic"/>
              </a:rPr>
              <a:t>Traditioneller</a:t>
            </a:r>
            <a:r>
              <a:rPr b="1" lang="de-DE" sz="4400" spc="-1" strike="noStrike">
                <a:solidFill>
                  <a:srgbClr val="006666"/>
                </a:solidFill>
                <a:latin typeface="Calligraphic"/>
              </a:rPr>
              <a:t> </a:t>
            </a:r>
            <a:r>
              <a:rPr b="1" lang="pl-PL" sz="4400" spc="-1" strike="noStrike">
                <a:solidFill>
                  <a:srgbClr val="006666"/>
                </a:solidFill>
                <a:latin typeface="Calligraphic"/>
              </a:rPr>
              <a:t>Osterschmuck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Lese und ergänze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3366"/>
                </a:solidFill>
                <a:uFillTx/>
                <a:latin typeface="Calligraphic"/>
              </a:rPr>
              <a:t>OSTERPALM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     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Nach der vierzigtägigen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.........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 beginnt die Osterzeit mit dem Palmsonntag</a:t>
            </a:r>
            <a:r>
              <a:rPr b="1" lang="pl-PL" sz="1200" spc="-1" strike="noStrike">
                <a:solidFill>
                  <a:srgbClr val="003366"/>
                </a:solidFill>
                <a:latin typeface="Bitstream Vera Sans"/>
              </a:rPr>
              <a:t>.</a:t>
            </a:r>
            <a:r>
              <a:rPr b="1" lang="pl-PL" sz="2000" spc="-1" strike="noStrike">
                <a:solidFill>
                  <a:srgbClr val="003366"/>
                </a:solidFill>
                <a:latin typeface="Bitstream Vera San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     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An diesem Tag geht man in die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............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, und weiht man die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...........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. Danach stellt man sie im Garten oder vor der Haust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ü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r auf.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Sie  </a:t>
            </a:r>
            <a:r>
              <a:rPr b="1" lang="de-DE" sz="1400" spc="-1" strike="noStrike">
                <a:solidFill>
                  <a:srgbClr val="003366"/>
                </a:solidFill>
                <a:latin typeface="Bitstream Vera Sans"/>
              </a:rPr>
              <a:t>...................</a:t>
            </a:r>
            <a:r>
              <a:rPr b="1" lang="pl-PL" sz="1400" spc="-1" strike="noStrike">
                <a:solidFill>
                  <a:srgbClr val="003366"/>
                </a:solidFill>
                <a:latin typeface="Bitstream Vera Sans"/>
              </a:rPr>
              <a:t>  das neu erwachende blühende Lebe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79960" y="57340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almen, symbolisieren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Fastenzeit, Kirc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2000" y="6499080"/>
            <a:ext cx="14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3366"/>
                </a:solidFill>
                <a:latin typeface="Arial"/>
              </a:rPr>
              <a:t>Quelle: www.wissen.d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Calligraphic"/>
              </a:rPr>
              <a:t>Warum bringt der Hase die Ei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Calligraphic"/>
              </a:rPr>
              <a:t>Der OSTERHA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Früher  brachten verschiedene Tiere die Ostereier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(</a:t>
            </a:r>
            <a:r>
              <a:rPr b="1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1. Satz fehlt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    </a:t>
            </a:r>
            <a:r>
              <a:rPr b="0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______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Seit dem Jahr 1600 ist nur noch der Hase als Symbol für Ostern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(</a:t>
            </a:r>
            <a:r>
              <a:rPr b="1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2. Satz fehlt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   </a:t>
            </a:r>
            <a:r>
              <a:rPr b="0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______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Hasen bekommen im Frühling sehr viele Junge, das heißt sie schenken Leben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Mit der Zeit kamen die Tradition von Osternhasen und jene von den Eiern zusammen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(</a:t>
            </a:r>
            <a:r>
              <a:rPr b="1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3. Satz fehlt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   </a:t>
            </a:r>
            <a:r>
              <a:rPr b="0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______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Ein Bäcker wollte zu Ostern ein Brot backen, das die Form von einem Lamm, einem jungen Schaf, hatte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(</a:t>
            </a:r>
            <a:r>
              <a:rPr b="1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4. Satz fehlt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   </a:t>
            </a:r>
            <a:r>
              <a:rPr b="0" lang="de-DE" sz="1000" spc="-1" strike="noStrike" u="sng">
                <a:solidFill>
                  <a:srgbClr val="003366"/>
                </a:solidFill>
                <a:uFillTx/>
                <a:latin typeface="Bitstream Vera Sans"/>
              </a:rPr>
              <a:t>______</a:t>
            </a: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66"/>
                </a:solidFill>
                <a:latin typeface="Bitstream Vera Sans"/>
              </a:rPr>
              <a:t>Sein Lamm hat am Ende jedoch wie ein Hase ausgesehen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51640" y="4857840"/>
            <a:ext cx="2016000" cy="1832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48360" y="2637000"/>
            <a:ext cx="302400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6666"/>
                </a:solidFill>
                <a:latin typeface="Arial"/>
              </a:rPr>
              <a:t>Ergänze die fehlenden Sätze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a. In den unterschiedlichen Regionen  von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eutschland kam der Fuchs, der Hahn, der Storch oder der Kuckuck zu Ostern mit seinen Geschenke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b. Es gibt eine andere Geschichte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c. Der Hase ist ein altes Zeichen für das Lebe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d. Leider konnte der Bäcker nicht </a:t>
            </a:r>
            <a:r>
              <a:rPr b="1" lang="pl-PL" sz="12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de-DE" sz="1200" spc="-1" strike="noStrike">
                <a:solidFill>
                  <a:srgbClr val="003366"/>
                </a:solidFill>
                <a:latin typeface="Arial"/>
              </a:rPr>
              <a:t>ehr gut Tiere mache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71640" y="6165720"/>
            <a:ext cx="3770280" cy="1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10720" y="6427800"/>
            <a:ext cx="14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3366"/>
                </a:solidFill>
                <a:latin typeface="Arial"/>
              </a:rPr>
              <a:t>Quelle: www.wissen.d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6666"/>
                </a:solidFill>
                <a:latin typeface="Calligraphic"/>
              </a:rPr>
              <a:t>Osterspielereien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Ordne zu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Bazgroły"/>
              </a:rPr>
              <a:t>         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1"/>
              </a:rPr>
              <a:t>Eierlauf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Bazgroły"/>
              </a:rPr>
              <a:t>      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2"/>
              </a:rPr>
              <a:t>Eierro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Bazgroły"/>
              </a:rPr>
              <a:t>   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3"/>
              </a:rPr>
              <a:t>Fang 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4"/>
              </a:rPr>
              <a:t>das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5"/>
              </a:rPr>
              <a:t> 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Bazgroły"/>
                <a:hlinkClick r:id="rId6"/>
              </a:rPr>
              <a:t>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2543040" cy="777960"/>
        </p:xfrm>
        <a:graphic>
          <a:graphicData uri="http://schemas.openxmlformats.org/drawingml/2006/table">
            <a:tbl>
              <a:tblPr/>
              <a:tblGrid>
                <a:gridCol w="216000"/>
                <a:gridCol w="643680"/>
                <a:gridCol w="168336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        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                   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" descr="Fröhliche"/>
          <p:cNvPicPr/>
          <p:nvPr/>
        </p:nvPicPr>
        <p:blipFill>
          <a:blip r:embed="rId7"/>
          <a:stretch/>
        </p:blipFill>
        <p:spPr>
          <a:xfrm>
            <a:off x="4643280" y="404640"/>
            <a:ext cx="2067120" cy="438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Ostern"/>
          <p:cNvPicPr/>
          <p:nvPr/>
        </p:nvPicPr>
        <p:blipFill>
          <a:blip r:embed="rId8"/>
          <a:stretch/>
        </p:blipFill>
        <p:spPr>
          <a:xfrm>
            <a:off x="6156360" y="907920"/>
            <a:ext cx="14572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1187280" y="5013360"/>
            <a:ext cx="257652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4356000" y="5018040"/>
            <a:ext cx="3384720" cy="1262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5148360" y="3141720"/>
            <a:ext cx="2448000" cy="1384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994360" y="2800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50000" y="5176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8720" y="54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6666"/>
                </a:solidFill>
                <a:latin typeface="Calligraphic"/>
              </a:rPr>
              <a:t>Osterwünsche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40320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Ich wünsch mir wa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ich wünsch mir was,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du lieber guter Osterhas,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ein großes Ei aus </a:t>
            </a:r>
            <a:r>
              <a:rPr b="0" lang="de-DE" sz="1800" spc="-1" strike="noStrike">
                <a:solidFill>
                  <a:srgbClr val="003366"/>
                </a:solidFill>
                <a:latin typeface="Microsoft Sans Serif"/>
              </a:rPr>
              <a:t>S</a:t>
            </a: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chokolade,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wie ich es noch nie </a:t>
            </a:r>
            <a:r>
              <a:rPr b="0" lang="de-DE" sz="1800" spc="-1" strike="noStrike">
                <a:solidFill>
                  <a:srgbClr val="003366"/>
                </a:solidFill>
                <a:latin typeface="Microsoft Sans Serif"/>
              </a:rPr>
              <a:t>g</a:t>
            </a:r>
            <a:r>
              <a:rPr b="0" lang="pl-PL" sz="1800" spc="-1" strike="noStrike">
                <a:solidFill>
                  <a:srgbClr val="003366"/>
                </a:solidFill>
                <a:latin typeface="Microsoft Sans Serif"/>
              </a:rPr>
              <a:t>esehen habe!</a:t>
            </a:r>
            <a:r>
              <a:rPr b="0" lang="pl-PL" sz="2400" spc="-1" strike="noStrike">
                <a:solidFill>
                  <a:srgbClr val="003366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0920" y="4437000"/>
            <a:ext cx="1359000" cy="1785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12000" y="260280"/>
            <a:ext cx="1547640" cy="1532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932360" y="24922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08560" y="438480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ir wünschen frohe Ostern heute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und allen großen Ostereierbeute.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Lasst's euch allen prima schmecken,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oftmals übers Mäulchen lecke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419640" y="5734080"/>
            <a:ext cx="48974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3:57:36Z</dcterms:created>
  <dc:creator>Fulara</dc:creator>
  <dc:description/>
  <dc:language>en-US</dc:language>
  <cp:lastModifiedBy>Fulara</cp:lastModifiedBy>
  <dcterms:modified xsi:type="dcterms:W3CDTF">2006-04-10T18:21:20Z</dcterms:modified>
  <cp:revision>60</cp:revision>
  <dc:subject/>
  <dc:title>Oster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43871029</vt:r8>
  </property>
</Properties>
</file>