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27.png" ContentType="image/png"/>
  <Override PartName="/ppt/media/image24.gif" ContentType="image/gif"/>
  <Override PartName="/ppt/media/image1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3.gif" ContentType="image/gif"/>
  <Override PartName="/ppt/media/image26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821-C9DC-4834-99A6-3E7F8D90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DA5-F07F-4E7E-97BF-73C51B17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FEE-3189-42BB-9545-D4C3B5F4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41B-153A-4E0B-9212-20086837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2872-A0BD-42EA-B719-7CB8AEB9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8B7-2BAD-4C34-BE03-55C494A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03A-D1EE-476E-9D0C-A7FAC988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BDDB-07B2-499B-9002-F56DCA7D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F763-B5DE-4536-82B3-2C758C0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D2CE-8CEC-467A-9740-62D5078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A41-29DE-4F90-BCDC-9904446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6E9-0C47-4633-BE04-D78ED0D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7614-0E2A-432D-A5A4-60739B3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A466-02F2-43F4-8260-1F009DCD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12A-75F8-42C5-9EC5-B5DF6E04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010A-1270-46EE-B14F-A56A1D94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03AE-B778-4E85-B557-A8023527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C17-227D-47AB-B757-EB4316F0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A69-FEB7-4F2D-8B41-8EB45805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F0F-D17A-4BC2-89AA-20100FC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BDE-85CC-43B6-AF63-D918086A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7FD-9C37-4359-ABF5-8B6AEDAF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12A-9930-4D35-A0A9-35597AB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32E-BF6E-468C-A98E-8490FB4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D40-93B0-4524-930C-FC1F68AB5B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779640" y="6308640"/>
            <a:ext cx="4876560" cy="433080"/>
            <a:chOff x="3779640" y="6308640"/>
            <a:chExt cx="4876560" cy="433080"/>
          </a:xfrm>
        </p:grpSpPr>
        <p:sp>
          <p:nvSpPr>
            <p:cNvPr id="53" name=""/>
            <p:cNvSpPr/>
            <p:nvPr/>
          </p:nvSpPr>
          <p:spPr>
            <a:xfrm flipH="1">
              <a:off x="3779280" y="6308640"/>
              <a:ext cx="4625640" cy="431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96280" y="6308640"/>
              <a:ext cx="259920" cy="4330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881E-F995-45EE-84C4-2CB95B2623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8.gif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abbe.de/zzzebra/index.asp?themaid=234&amp;titelid=1014" TargetMode="External"/><Relationship Id="rId2" Type="http://schemas.openxmlformats.org/officeDocument/2006/relationships/hyperlink" Target="http://www.labbe.de/zzzebra/index.asp?themaid=234&amp;titelid=1015" TargetMode="External"/><Relationship Id="rId3" Type="http://schemas.openxmlformats.org/officeDocument/2006/relationships/hyperlink" Target="http://www.labbe.de/zzzebra/index.asp?themaid=234&amp;titelid=1018" TargetMode="External"/><Relationship Id="rId4" Type="http://schemas.openxmlformats.org/officeDocument/2006/relationships/hyperlink" Target="http://www.labbe.de/zzzebra/index.asp?themaid=234&amp;titelid=1018" TargetMode="External"/><Relationship Id="rId5" Type="http://schemas.openxmlformats.org/officeDocument/2006/relationships/hyperlink" Target="http://www.labbe.de/zzzebra/index.asp?themaid=234&amp;titelid=1018" TargetMode="External"/><Relationship Id="rId6" Type="http://schemas.openxmlformats.org/officeDocument/2006/relationships/hyperlink" Target="http://www.labbe.de/zzzebra/index.asp?themaid=234&amp;titelid=1018" TargetMode="External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63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atarzyn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Fula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79840" y="5392800"/>
            <a:ext cx="38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458136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Candy Sniper"/>
              </a:rPr>
              <a:t>das höchste und bedeutendst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Candy Sniper"/>
              </a:rPr>
              <a:t>Fest der Christenheit</a:t>
            </a:r>
            <a:r>
              <a:rPr b="0" lang="pl-PL" sz="2400" spc="-1" strike="noStrike">
                <a:solidFill>
                  <a:srgbClr val="663300"/>
                </a:solidFill>
                <a:latin typeface="Candy Sniper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6666"/>
                </a:solidFill>
                <a:latin typeface="Calligraphic"/>
              </a:rPr>
              <a:t>Frohe Oster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Fröhliche"/>
          <p:cNvPicPr/>
          <p:nvPr/>
        </p:nvPicPr>
        <p:blipFill>
          <a:blip r:embed="rId1"/>
          <a:stretch/>
        </p:blipFill>
        <p:spPr>
          <a:xfrm>
            <a:off x="1116000" y="2709720"/>
            <a:ext cx="4176720" cy="884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Ostern"/>
          <p:cNvPicPr/>
          <p:nvPr/>
        </p:nvPicPr>
        <p:blipFill>
          <a:blip r:embed="rId2"/>
          <a:stretch/>
        </p:blipFill>
        <p:spPr>
          <a:xfrm>
            <a:off x="4140360" y="3573360"/>
            <a:ext cx="3889080" cy="117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92360" y="4183200"/>
            <a:ext cx="2087640" cy="199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03640" y="5013360"/>
            <a:ext cx="31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Calligraphic"/>
              </a:rPr>
              <a:t>wünsch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Bartłomiej Gi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Bartłomiej Gil"/>
              </a:rPr>
              <a:t>Katarzyna   Fu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8200" y="6329520"/>
            <a:ext cx="80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3366"/>
                </a:solidFill>
                <a:latin typeface="Arial"/>
              </a:rPr>
              <a:t>Ohne Gewähr Änderungen vorbehalten. Alle Rechte vorbehalten</a:t>
            </a:r>
            <a:r>
              <a:rPr b="0" i="1" lang="de-DE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867280" y="69228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6666"/>
                </a:solidFill>
                <a:latin typeface="Calligraphic"/>
              </a:rPr>
              <a:t>Symbolik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01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Bitstream Vera Sans"/>
              </a:rPr>
              <a:t>Zeige das Ostersymbol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Bitstream Vera Sans"/>
              </a:rPr>
              <a:t>Ostere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Bitstream Vera Sans"/>
              </a:rPr>
              <a:t>Osterh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Bitstream Vera Sans"/>
              </a:rPr>
              <a:t>Osterstrau</a:t>
            </a:r>
            <a:r>
              <a:rPr b="1" lang="de-DE" sz="1800" spc="-1" strike="noStrike">
                <a:solidFill>
                  <a:srgbClr val="003366"/>
                </a:solidFill>
                <a:latin typeface="Bitstream Vera Sans"/>
              </a:rPr>
              <a:t>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Bitstream Vera Sans"/>
              </a:rPr>
              <a:t>Osterlam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Bitstream Vera Sans"/>
              </a:rPr>
              <a:t>Osterpal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1644480" cy="147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11560" y="4149720"/>
            <a:ext cx="1408320" cy="230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05280" y="2421000"/>
            <a:ext cx="165420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372360" y="3860640"/>
            <a:ext cx="1641240" cy="261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651640" y="476280"/>
            <a:ext cx="15667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Das Osterfest –</a:t>
            </a: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 </a:t>
            </a: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ein Fest der Familie</a:t>
            </a:r>
            <a:br>
              <a:rPr sz="3600"/>
            </a:br>
            <a:r>
              <a:rPr b="1" lang="pl-PL" sz="1400" spc="-1" strike="noStrike">
                <a:solidFill>
                  <a:srgbClr val="006666"/>
                </a:solidFill>
                <a:latin typeface="Calligraphic"/>
              </a:rPr>
              <a:t>Teil 1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as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Osterfest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besteht aus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em Palmsonnta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g, 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er Karwoche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und 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Auferstehungsfeier Christ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er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Palmsonntag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ist der Beginn der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Karwoche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. Im Mittelpunkt dieses Festtages steht die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Palmprozession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Am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Karfreitag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versammeln sich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die Gläubigen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in den Kirchen 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vor dem Heiligen Grab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Nach der vierzigtägigen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Fastenzeit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freuen sich alle Gläubigen auf das Osterfest. Die Feier beginnt in der Osternacht mit dem Entzünden des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feuers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. Der Pri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e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ster segnet das Feuer und entzündet das Licht für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kerze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Der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sonntag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ist der wichtigste Tag an den Osterfeiertagen. Am Ostersonntag freuen sich die Christen über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Auferstehung von Jesus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. Die Feier beginnt in der Osternacht von Karsamstag auf Ostersonntag mit einem Gottesdienst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Das Osterfest ist heute ein Fest der Familie. Man trifft sich mit der Verwand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t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schaft, um dieses Fest zu feiern. Nach dem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familiären Frühstück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suchen die Kinder im Garten oder im Haus die versteckten Eier. Dies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eier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hat natü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r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lich Osterhase in der Nacht versteckt.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3366"/>
                </a:solidFill>
                <a:latin typeface="Bitstream Vera Sans"/>
              </a:rPr>
              <a:t>Quelle: Deutsch Aktuell 16</a:t>
            </a:r>
            <a:r>
              <a:rPr b="0" i="1" lang="pl-PL" sz="1000" spc="-1" strike="noStrike">
                <a:solidFill>
                  <a:srgbClr val="003366"/>
                </a:solidFill>
                <a:latin typeface="Bitstream Vera Sans"/>
              </a:rPr>
              <a:t>/</a:t>
            </a:r>
            <a:r>
              <a:rPr b="0" i="1" lang="de-DE" sz="1000" spc="-1" strike="noStrike">
                <a:solidFill>
                  <a:srgbClr val="003366"/>
                </a:solidFill>
                <a:latin typeface="Bitstream Vera Sans"/>
              </a:rPr>
              <a:t>2006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Das Osterfest –</a:t>
            </a: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 </a:t>
            </a: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ein Fest der Familie</a:t>
            </a:r>
            <a:br>
              <a:rPr sz="3600"/>
            </a:br>
            <a:r>
              <a:rPr b="1" lang="pl-PL" sz="1400" spc="-1" strike="noStrike">
                <a:solidFill>
                  <a:srgbClr val="006666"/>
                </a:solidFill>
                <a:latin typeface="Calligraphic"/>
              </a:rPr>
              <a:t>Teil 2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2492280"/>
            <a:ext cx="419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rdne zu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er Palmsonntag beginnt 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2. Die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hristen versammeln sich in der Kirche vor dem Heiligen Grab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3. 40 Tage dauer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4. Das Osterfest beginnt mi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5. Der wichtigste Tag an den Osterfeiertagen is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6. In der Osternacht von Karsamstag auf Ostersonntag feiert man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7. Während des Osterfestes trifft man sich mi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8. Zu Ostern suchen die Kinder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213000"/>
            <a:ext cx="25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a.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die Fastenze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b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er Ostersonnta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c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er En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zündung der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Osterkerz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am Karfreita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e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ie Aufersteh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von Jesu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f. die Karwoch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g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ie Osterei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h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er Famili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5157720"/>
            <a:ext cx="1584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6666"/>
                </a:solidFill>
                <a:latin typeface="Calligraphic"/>
              </a:rPr>
              <a:t>Osterbräuche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79056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1944720" cy="10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08720" y="4508640"/>
            <a:ext cx="1028880" cy="49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2492280"/>
            <a:ext cx="75614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Gründonnerstag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– an diesem Tag muss etwas grünes auf den Tisch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kommen: Salat, Spinat, Lauch und eine Supp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mit vielen Kräuter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 „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Judasfeuer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alles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was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man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nicht mehr braucht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wird verbrannt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um Beispiel Holzabfälle und Kerzenrest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Ostereier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gefärbte und bemalte Hühnereier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 auch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Schokoladeneier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Man findet diese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zur Osterzeit an vielen Bäumen und Sträuchern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Palmbuschen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Am Sonntag vor Ostern ist es Tradition Palmbusche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zu verschenken.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Das sind kleine Sträußchen au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eidenkätzchenzweigen oder aus Buchsbaum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516720" y="2421000"/>
            <a:ext cx="100800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588000" y="5157720"/>
          <a:ext cx="124632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5157720"/>
                    <a:ext cx="12463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Traditioneller</a:t>
            </a:r>
            <a:r>
              <a:rPr b="1" lang="de-DE" sz="4400" spc="-1" strike="noStrike">
                <a:solidFill>
                  <a:srgbClr val="006666"/>
                </a:solidFill>
                <a:latin typeface="Calligraphic"/>
              </a:rPr>
              <a:t> </a:t>
            </a: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Osterschmuck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Lese und ergänze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3366"/>
                </a:solidFill>
                <a:uFillTx/>
                <a:latin typeface="Calligraphic"/>
              </a:rPr>
              <a:t>OSTERPAL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    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Nach der vierzigtägigen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 beginnt die Osterzeit mit dem Palmsonntag</a:t>
            </a:r>
            <a:r>
              <a:rPr b="1" lang="pl-PL" sz="1200" spc="-1" strike="noStrike">
                <a:solidFill>
                  <a:srgbClr val="003366"/>
                </a:solidFill>
                <a:latin typeface="Bitstream Vera Sans"/>
              </a:rPr>
              <a:t>.</a:t>
            </a:r>
            <a:r>
              <a:rPr b="1" lang="pl-PL" sz="2000" spc="-1" strike="noStrike">
                <a:solidFill>
                  <a:srgbClr val="003366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    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An diesem Tag geht man in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, und weiht man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. Danach stellt man sie im Garten oder vor der Haust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ü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r auf.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Sie 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.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  das neu erwachende blühende Lebe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79960" y="57340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almen, symbolisieren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Fastenzeit, Kir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000" y="649908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3366"/>
                </a:solidFill>
                <a:latin typeface="Arial"/>
              </a:rPr>
              <a:t>Quelle: www.wissen.d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Calligraphic"/>
              </a:rPr>
              <a:t>Warum bringt der Hase die Ei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Calligraphic"/>
              </a:rPr>
              <a:t>Der OSTERH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Früher  brachten verschiedene Tiere die Ostereier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1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Seit dem Jahr 1600 ist nur noch der Hase als Symbol für Ostern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2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Hasen bekommen im Frühling sehr viele Junge, das heißt sie schenken Leb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Mit der Zeit kamen die Tradition von Osternhasen und jene von den Eiern zusamm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3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Ein Bäcker wollte zu Ostern ein Brot backen, das die Form von einem Lamm, einem jungen Schaf, hatte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4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Sein Lamm hat am Ende jedoch wie ein Hase ausgeseh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4857840"/>
            <a:ext cx="2016000" cy="1832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48360" y="2637000"/>
            <a:ext cx="30240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6666"/>
                </a:solidFill>
                <a:latin typeface="Arial"/>
              </a:rPr>
              <a:t>Ergänze die fehlenden Sätze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a. In den unterschiedlichen Regionen  von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eutschland kam der Fuchs, der Hahn, der Storch oder der Kuckuck zu Ostern mit seinen Geschenke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b. Es gibt eine andere Geschicht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c. Der Hase ist ein altes Zeichen für das Lebe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d. Leider konnte der Bäcker nicht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ehr gut Tiere mache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6165720"/>
            <a:ext cx="3770280" cy="1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10720" y="642780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3366"/>
                </a:solidFill>
                <a:latin typeface="Arial"/>
              </a:rPr>
              <a:t>Quelle: www.wissen.d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Osterspielereien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Ordne z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Bazgroły"/>
              </a:rPr>
              <a:t>        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1"/>
              </a:rPr>
              <a:t>Eierlauf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Bazgroły"/>
              </a:rPr>
              <a:t>     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2"/>
              </a:rPr>
              <a:t>Eierro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Bazgroły"/>
              </a:rPr>
              <a:t>  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3"/>
              </a:rPr>
              <a:t>Fang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4"/>
              </a:rPr>
              <a:t>das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5"/>
              </a:rPr>
              <a:t>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6"/>
              </a:rPr>
              <a:t>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2543040" cy="777960"/>
        </p:xfrm>
        <a:graphic>
          <a:graphicData uri="http://schemas.openxmlformats.org/drawingml/2006/table">
            <a:tbl>
              <a:tblPr/>
              <a:tblGrid>
                <a:gridCol w="216000"/>
                <a:gridCol w="643680"/>
                <a:gridCol w="168336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Fröhliche"/>
          <p:cNvPicPr/>
          <p:nvPr/>
        </p:nvPicPr>
        <p:blipFill>
          <a:blip r:embed="rId7"/>
          <a:stretch/>
        </p:blipFill>
        <p:spPr>
          <a:xfrm>
            <a:off x="4643280" y="404640"/>
            <a:ext cx="2067120" cy="43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Ostern"/>
          <p:cNvPicPr/>
          <p:nvPr/>
        </p:nvPicPr>
        <p:blipFill>
          <a:blip r:embed="rId8"/>
          <a:stretch/>
        </p:blipFill>
        <p:spPr>
          <a:xfrm>
            <a:off x="6156360" y="907920"/>
            <a:ext cx="14572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1187280" y="5013360"/>
            <a:ext cx="257652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4356000" y="5018040"/>
            <a:ext cx="3384720" cy="1262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5148360" y="3141720"/>
            <a:ext cx="2448000" cy="1384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94360" y="2800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50000" y="517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872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6666"/>
                </a:solidFill>
                <a:latin typeface="Calligraphic"/>
              </a:rPr>
              <a:t>Osterwünsch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4032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Ich wünsch mir wa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ich wünsch mir was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du lieber guter Osterhas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ein großes Ei aus </a:t>
            </a:r>
            <a:r>
              <a:rPr b="0" lang="de-DE" sz="1800" spc="-1" strike="noStrike">
                <a:solidFill>
                  <a:srgbClr val="003366"/>
                </a:solidFill>
                <a:latin typeface="Microsoft Sans Serif"/>
              </a:rPr>
              <a:t>S</a:t>
            </a: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chokolade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wie ich es noch nie </a:t>
            </a:r>
            <a:r>
              <a:rPr b="0" lang="de-DE" sz="1800" spc="-1" strike="noStrike">
                <a:solidFill>
                  <a:srgbClr val="003366"/>
                </a:solidFill>
                <a:latin typeface="Microsoft Sans Serif"/>
              </a:rPr>
              <a:t>g</a:t>
            </a: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esehen habe!</a:t>
            </a:r>
            <a:r>
              <a:rPr b="0" lang="pl-PL" sz="2400" spc="-1" strike="noStrike">
                <a:solidFill>
                  <a:srgbClr val="003366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4437000"/>
            <a:ext cx="1359000" cy="178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1547640" cy="1532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2492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08560" y="438480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ir wünschen frohe Ostern heute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und allen großen Ostereierbeute.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Lasst's euch allen prima schmecken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ftmals übers Mäulchen lecke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419640" y="5734080"/>
            <a:ext cx="48974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57:36Z</dcterms:created>
  <dc:creator>Fulara</dc:creator>
  <dc:description/>
  <dc:language>en-US</dc:language>
  <cp:lastModifiedBy>Fulara</cp:lastModifiedBy>
  <dcterms:modified xsi:type="dcterms:W3CDTF">2006-04-10T18:21:20Z</dcterms:modified>
  <cp:revision>60</cp:revision>
  <dc:subject/>
  <dc:title>Oste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43871029</vt:r8>
  </property>
</Properties>
</file>