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gif" ContentType="image/gif"/>
  <Override PartName="/ppt/media/image12.jpeg" ContentType="image/jpeg"/>
  <Override PartName="/ppt/media/image9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25.png" ContentType="image/png"/>
  <Override PartName="/ppt/media/image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8.gif" ContentType="image/gif"/>
  <Override PartName="/ppt/media/image16.gif" ContentType="image/gif"/>
  <Override PartName="/ppt/media/image27.png" ContentType="image/png"/>
  <Override PartName="/ppt/media/image24.gif" ContentType="image/gif"/>
  <Override PartName="/ppt/media/image21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71B-980D-46E4-AE05-3B6283A3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7BB-6EDB-4472-9B79-8C6F8444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05A-623E-4F95-A7D4-44BF6B8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4D6-AE9C-4482-929F-411FAAE5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DBB-E8E8-4467-9400-72607C96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02E-97DD-4532-B255-10CA8CE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A061-FC27-4AD7-85AD-DBC6AFB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619F-B898-46DF-B15D-73813FA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FD0-E7A9-466C-B8F7-B8E6BA8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2C98-B149-4BDE-B911-95B346A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DB94-4BB7-4D2D-A331-AC8E1E0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3B8-A7A8-469E-843B-E7C07AC4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FC82-1E83-4F93-8B38-2C8DAF2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1AD-1CE5-4653-B84F-7025CB6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679-EE6E-4DD3-A3C6-9C69B668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4FC1-C3E8-4AD8-8778-214DABA5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B4EC-903B-441B-B452-DFC56E97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B7C-E8C0-462C-B690-4D5CED5F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BB0-6C19-4465-8D45-6DB6B4C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06B-5ED0-455A-AA7B-3CEB7BCD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774-65EA-4D38-BB4F-7178AEA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5BB-45CD-43AC-8360-5434206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CF8-25ED-4DFA-9009-6DA2A2A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CE8-F5BF-43C8-B4A9-8BCA551F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1C8-897A-4A61-AD83-A06E15BAF3AB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1716-D9D5-444B-ACB3-46EA9C1DC66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6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9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71640" y="54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NIE DLA NIKOTY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797360"/>
            <a:ext cx="756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Comic Sans MS"/>
              </a:rPr>
              <a:t>Wpływ nikotyny na organizm ludzk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1773360"/>
            <a:ext cx="2451240" cy="280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0360" y="580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Autor : Alicja Kołodziejczy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Paląc możesz na to zachorować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3456000" cy="330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7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RAK PŁU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456000" cy="326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32360" y="47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UDAR MÓZG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5157720"/>
            <a:ext cx="3240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Verdana"/>
                <a:ea typeface="Times New Roman"/>
              </a:rPr>
              <a:t>To uszkodzenie mózgu jest wynikiem działania dymu tytoniowego. </a:t>
            </a:r>
            <a:r>
              <a:rPr b="1" lang="en-US" sz="1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n-US" sz="1000" spc="-1" strike="noStrike">
                <a:solidFill>
                  <a:srgbClr val="ffff66"/>
                </a:solidFill>
                <a:latin typeface="Verdana"/>
                <a:ea typeface="Times New Roman"/>
              </a:rPr>
              <a:t>W następstwie wylewu możesz stracić wzrok, zostać sparaliżowany, a nawet umrzeć. Chyba, że rzucisz palenie</a:t>
            </a:r>
            <a:r>
              <a:rPr b="1" lang="en-US" sz="1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5157720"/>
            <a:ext cx="324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Dym tytoniowy niszczy naturalną odporność komórek Twoich płuc. Do rozwoju raka wystarczy jedna komórka uszkodzona przez jeden papieros. Każdy papieros może wywołać u Ciebie śmiertelną chorobę. Chyba, że rzucisz paleni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Zawał ser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Dym tytoniowy sprawia, że na ściankach Twojej aorty odkładają się złogi tłuszczu. Każdy papieros przybliża Cię do zawału serca lub wylewu. Chyba, że rzucisz palen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Znaczną część odpowiedzialności za wystąpienie zawału serca ponosi sam chory. Czynnikami zwiększającymi ryzyko zawału są na przykład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niewłaściwa dieta, zawierająca zbyt duże ilości tłuszczów, cukru i soli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długotrwały stre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palenie tytoniu </a:t>
            </a: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i picie zbyt dużych ilości alkoholu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wysokie ciśnienie krw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Wyeliminowanie wyżej wymienionych czynników spowoduje znaczne ograniczenie ryzyka zawału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340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ak wędruje nikotyna do mózgu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59640" cy="366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11640" y="5445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76360" y="56610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 rot="10800000">
            <a:off x="6372360" y="5661000"/>
            <a:ext cx="1428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Gdy palacz rzuci palenie to za 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9164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0 min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 – wraca do normy ciśnienie i czynność serc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8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a się CO2 ,a wraca O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4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mniejsze ryzyko zawału mięśnia sercoweg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48 godz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regeneracja zakończeń nerwowych, wraca zmysł smaku i węchu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2 tyg. – 3 mc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Lepsze krążenie i wydajność płuc wzrasta o 30% i fizyczn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1 mc. – 9 mc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enie kaszlu, nieżytu nosa, duszność, uczuci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zmęczenia wzrasta energia. Zaczyna się regeneracja rzęsek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okrywających nabłonek dróg oddechowych, pomagają 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oczyszczaniu skrzeli i pomagają w blokowaniu wirusó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1 rok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– o 50% mniejsze ryzyko zachorowania na niedokrwienie serc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po 5 latach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zmniejsza się o 50% szansa na raka płuc i raka jamy ustnej,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rtani, przełyku i udaru mózgu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Tahoma"/>
              </a:rPr>
              <a:t>po 10 latach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– płuc rak ryzyko jego jak u niepalącego. Zużyte komórki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zastąpione są nowymi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84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Niepalenie jest mod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Świat przestaje palić. Ameryka jest pierwsza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Tam coraz trudniej jest być palaczem. Przekonało się o tym wielu Polaków w czasie pobytu w USA. Palacze są traktowani jak zadżumieni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ie palą politycy, aktorzy, lekarze i zwykli ludzi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ezydent USA ogłosił Biały Dom miejscem wolnym od dymu tytoniowego. Wydaje się, że palenie tytoniu będzie tylko krótkim epizodem w historii rozwoju ludzkości i wyląduje na śmietniku historii... Popielniczki znikną z naszego otoczenia tak, jak kiedyś zginęły spluwaczk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Moda na niepalenie zaczyna docierać do Polski.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Także u nas politycy, aktorzy rzucają palenie. </a:t>
            </a:r>
            <a:r>
              <a:rPr b="1" lang="en-US" sz="1200" spc="-1" strike="noStrike">
                <a:solidFill>
                  <a:srgbClr val="ff3300"/>
                </a:solidFill>
                <a:latin typeface="Tahoma"/>
              </a:rPr>
              <a:t>Każdy chce być modny i akceptowany społecznie. Lecz również zdrow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zpitale, szkoły, coraz więcej zakładów pracy i prywatnych domów w Polsce staje się miejscami wolnymi od dymu tytoniowego. Coraz więcej palaczy decyduje się, aby nie palić w obecności dziec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7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Kto najbardziej kocha palaczy 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4191120" cy="504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1233720" cy="1312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877080" y="38606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35280" y="162864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ahoma"/>
              </a:rPr>
              <a:t>JAK NIE CHCESZ ŻEBY CIĘ DOPADŁ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8920" y="242100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Wyrzuć papierosy jak najprędzej 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87640" y="27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ONI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157720"/>
            <a:ext cx="56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OPRACOWANIE : ALICJA KOŁODZIEJCZYK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nauczycielka ZSS w Rzyk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Skąd się wzięła nikotyna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59280" y="1628280"/>
            <a:ext cx="38959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Surowcem do otrzymywania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nikotyny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jest tytoń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Tahoma"/>
              </a:rPr>
              <a:t>(Nicotiana), rodzaj z rodziny psiankowatych . Istnieje tej rośliny ponad 100 gatunków, głównie przywozi się ją z  Nowego Świata , ale jest też uprawiany w Polsce. Tytoń szlachetny (Nicotiana tabacum) jest ważną ekonomicznie rośliną uprawną, używkową, zawierającą w liściach </a:t>
            </a:r>
            <a:r>
              <a:rPr b="1" lang="pl-PL" sz="1400" spc="-1" strike="noStrike">
                <a:solidFill>
                  <a:srgbClr val="ff3300"/>
                </a:solidFill>
                <a:latin typeface="Tahoma"/>
              </a:rPr>
              <a:t>alkaloid nikotynę</a:t>
            </a:r>
            <a:r>
              <a:rPr b="1" lang="pl-PL" sz="1400" spc="-1" strike="noStrike">
                <a:solidFill>
                  <a:srgbClr val="ffff66"/>
                </a:solidFill>
                <a:latin typeface="Tahoma"/>
              </a:rPr>
              <a:t>, o działaniu pobudzającym system nerwowy, w większych dawkach jest trujący.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ffffff"/>
                </a:solidFill>
                <a:latin typeface="Tahoma"/>
              </a:rPr>
              <a:t>Tytoń używany był od dawna przez Indian.  Zwyczaj palenia tytoniu został wprowadzony w Europie w XVI w. (J. Nicot). Obecnie tytoń uprawiany jest w wielu odmianach. Tytoń bakun, czyli machorka (Nicotiana rustica) jest rzadszy w uprawie i stosowany głównie do produkcji insektycydów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905280" cy="4751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564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3300"/>
                </a:solidFill>
                <a:uFillTx/>
                <a:latin typeface="Tahoma"/>
              </a:rPr>
              <a:t>Nicotiana tabaca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Tahoma"/>
              </a:rPr>
              <a:t>Tytoń szlachet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805360"/>
            <a:ext cx="503280" cy="358920"/>
          </a:xfrm>
          <a:prstGeom prst="leftArrow">
            <a:avLst>
              <a:gd name="adj1" fmla="val 50000"/>
              <a:gd name="adj2" fmla="val 3505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Alkaloid - nikoty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608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ikotyna, NC5H4-C4H7N-CH3, 1-metylo-2-(ß-pirydylo)-pirolidyna to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alkaloid występujący                    w liściach i korzeniach tytoniu.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Jest to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iecz                       o temperaturze wrzenia 246°C, rozpuszczalna w wodzie i w alkoholu, na powietrzu brunatniejąca. Stosowana w medycynie, garbarstwie oraz jako składnik preparatów owadobójczych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Nikotyna działa najpierw pobudzająco, a następnie porażająco na połączenia w zwojach nerwowych, zwłaszcza na autonomiczny układ nerwowy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 Poraża też nerwowe zakończenia ruchowe i ośrodki (depresja ośrodkowa) rdzenia przedłużonego. </a:t>
            </a:r>
            <a:r>
              <a:rPr b="1" lang="en-US" sz="1200" spc="-1" strike="noStrike">
                <a:solidFill>
                  <a:srgbClr val="ffff66"/>
                </a:solidFill>
                <a:latin typeface="Tahoma"/>
              </a:rPr>
              <a:t>Śmierć przy zatruciu następuje wskutek porażenia oddechu (depresja oddechowa). Dawka śmiertelna od 50 mg, co odpowiada 2-3 papierosom przyjętym doustnie.</a:t>
            </a: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awami zatrucia są: nudności, ślinotok, wymioty, drżenie kończyn, bladość skóry, poty, biegunka, kolka jelitowa, drgawki lub kurcze mięśniowe, zaburzenia wzroku, początkowo zwolnienie, potem przyspieszenie tętna, zaburzenia świadomości, następnie utrata przytomności, zapaść, porażenie oddechu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303640" cy="203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3313080" cy="220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1268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ahoma"/>
              </a:rPr>
              <a:t>Nazwa chemiczna : 3-(1-metylo-2-pirolidyno)-pirydy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Co to jest nikotynizm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Nikotynizm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1" lang="pl-PL" sz="2000" spc="-1" strike="noStrike">
                <a:solidFill>
                  <a:srgbClr val="ffff66"/>
                </a:solidFill>
                <a:latin typeface="Tahoma"/>
              </a:rPr>
              <a:t>stan nałogowego palenia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(zażywania, żucia) wyrobów tytoniowych, prowadzący do przewlekłego zatrucia. Powoduje występowanie w stosunkowo młodym wieku, np. na skutek uszkodzenia ośrodków seksualnych w rdzeniu kręgowym, zaburzeń w układzie naczyniowym w obrębie miednicy. Wstępnym warunkiem leczenia jest radykalne rzucenie palenia.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Nikotynizm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 jest to nałóg palenia lub używania tytoniu albo zażywania tabaki. Prowadzi do przewlekłego, a nawet ostrego zatrucia nikotyną, która jest bardzo silną trucizną. W małych dawkach pobudza czynność układu nerwowego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3640" y="5084640"/>
            <a:ext cx="309564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ym tytoniow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495680" cy="3138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Spalanie w wysokiej temperaturze tytoniu                            w „papierowej koszulce” jest procesem chemicznym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W jego wyniku powstaje wiele groźnych trucizn.            Dym tytoniowy składa się z prawie 4000 związków chemicznych, w tym ponad 40 to substancje rakotwórcz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Wszystkie są wprowadzane do najgłębszych zakamarków organizmu palacza; ale także do organizmu wszystkich, którzy przebywają             w środowisku zanieczyszczonym dymem tytoniowym. </a:t>
            </a: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Także płód w łonie matki, pali wraz z nią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 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Dym tytoniowy jest najczęstszym źródłem substancji uczulających w naszym otoczeniu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Wymuszony kontakt z dymem tytoniowym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może prowadzić nie tylko do łzawienia oczu, alergii, kaszlu i napadów astmy oskrzelowej, ale również do wielu innych poważnych chorób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Żony palących mężów chorują dwukrotnie częściej na raka płuca niż partnerki mężczyzn niepalących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 Badania naukowe wskazują także na przyczynowy związek wymuszonego, biernego palenia z zawałem serca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    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Przy tym palacz wydaje się być mniej atrakcyjny zarówno towarzysko, jak i seksualnie. Wiele osób uważa, że dym tytoniowy śmierdzi i nie chce być zmuszonym do kontaktu z charakterystycznym zapachem unoszącego się z ust czy ubrania palacza.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66"/>
                </a:solidFill>
                <a:latin typeface="Tahoma"/>
              </a:rPr>
              <a:t>Prof. Kazimierz Imieliński, wybitny polski seksuolog, twierdzi, że coraz więcej pań nie może się zdecydować na przyjaźń z mężczyzną z tego powodu, że on pali i po prostu śmierdzi dymem tytoniowym. Są też badania naukowe, dokumentujące, iż palacze mogą być mniej sprawni seksualnie. Znacznie częściej dotyka ich impotencj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948360" y="40464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8920" y="40464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24360" y="6021360"/>
            <a:ext cx="1727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Oto niektóre trucizny z dymu tytoniowego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748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ceto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rozpuszczalnik, składnik farb i lakie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moniak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tosowany w chłodnictwie, składnik nawozów mineraln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Arse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tosowany także jako popularna trutka na szczury i inne gryzoni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Benzopire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o właściwościach rakotwórczych, wykorzystywany w przemyśle             chemicznym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Buta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gaz pędny, używany do wyrobu benzyny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hlorek winylu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używany np. do produkcji plastiku. Posiada 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iała smołowate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ą odpowiedzialne za powstawanie nowotworów złośliwych u człowieka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Cyjanowodór - kwas pruski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, gaz używany przez hitlerowców w komorach gazowych do masowego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ludobójstwa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Fenole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- niszczą rzęski nabłonka wyściełającego oskrzela. Rzęski te oczyszczają wdychane przez człowieka powietrze i chronią drogi oddechowe przed przenikaniem przez ich ściany substancji                     i związków chemicznych oraz mikroorganizmów, np. wirus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Formaldehyd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wiązek stosowany m.in. do konserwacji preparatów biologicznych, np. żab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Kadm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ilnie trujący metal o właściwościach rakotwórcz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Metanol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silne trujący związek chemiczny, używany do produkcji benzyn silnikowych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Naftyloamina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wchodzi w skład barwników, używanych w przemyśle drukarskim. Posiada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Nikotyna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działa obkurczająco na ściany naczyń krwionośnych (w tym także naczyń wieńcowych zaopatrujących serce), zwiększa ciśnienie krwi, jest odpowiedzialna za nie fizjologiczne przyspieszenie akcji serca oraz zaburzenia rytmu serca, a także wpływa negatywnie na gen p53, który powstrzymuje niekontrolowany rozwój komórek, czyli powstawanie nowotwo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Polon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radioaktywny pierwiastek, odkryty przez naszą rodaczkę Marię Skłodowską-Curie. Posiada właściwości rakotwórcze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Tlenek węgla (czad, CO)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 - zmniejszając zawartość tlenu we krwi, w znaczny sposób utrudnia  pracę serca i dotarcie tlenu do różnych części i narządów organizmu człowieka. Jest to związek będący bezpośrednią przyczyną śmierci wielu osób w czasie pożarów.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66"/>
                </a:solidFill>
                <a:latin typeface="Tahoma"/>
              </a:rPr>
              <a:t>Uretan </a:t>
            </a:r>
            <a:r>
              <a:rPr b="1" lang="pl-PL" sz="1100" spc="-1" strike="noStrike">
                <a:solidFill>
                  <a:srgbClr val="ffffff"/>
                </a:solidFill>
                <a:latin typeface="Tahoma"/>
              </a:rPr>
              <a:t>- związek o właściwościach rakotwórczych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96360" y="10526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885080" y="4869000"/>
            <a:ext cx="1069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0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Bierne palen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879640" cy="2255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Palenie papierosów przez jednego czy więcej członków rodziny może być przyczyną poważnych kłopotów zdrowotnych najbliższy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Dzieci są pierwszymi ofiarami palenia tytoniu. W Polsce każdego roku rodzi się ponad 100 tys. dzieci, które podczas pierwszych 9-ciu miesięcy istnienia, wraz z palącą matką w ciąży, eksponowane są na setki, niszczących zdrowie, związków chemicznych zawartych w dymie tytoniowym. Wszystkie te dzieci wolniej rosną w łonie matki, rodzą się niedorozwinięte (przeciętnie niższa masa urodzeniowa o 200-400g), są znacznie gorzej przygotowane do samodzielnego życia. Mają mniejszą szansę na normalne, zdrowe życi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60% małych dzieci w Polsce jest zmuszonych przez obu czy jednego z rodziców do biernego palenia.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 Badania naukowe, także w Polsce, jednoznacznie wskazują na znacznie wyższe               u tych dzieci, przyczynowo związane z biernym paleniem,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zgony nagłe noworodków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pl-PL" sz="1200" spc="-1" strike="noStrike">
                <a:solidFill>
                  <a:srgbClr val="ff3300"/>
                </a:solidFill>
                <a:latin typeface="Tahoma"/>
              </a:rPr>
              <a:t>astmę, schorzenia układu oddechowego czy ucha środkoweg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1" lang="pl-PL" sz="1200" spc="-1" strike="noStrike">
                <a:solidFill>
                  <a:srgbClr val="ffff66"/>
                </a:solidFill>
                <a:latin typeface="Tahoma"/>
              </a:rPr>
              <a:t>W Polsce wymuszone bierne palenie od momentu poczęcia do 4 roku życia jest największym zagrożeniem dla zdrowia dzie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227640" y="5661000"/>
            <a:ext cx="935280" cy="824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116000" y="3645000"/>
            <a:ext cx="287964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5950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łód pali wraz z matk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Na co cierpi palacz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6121440" cy="4996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6080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Jak wygląda twarz palacz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608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alenie tytoniu nie tylko naraża nas na utratę zdrowia, ale i pogarsza wygląd skóry.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Wcześniej występują zmarszczki, opóźnia się gojenie ran, zaostrza się stan wielu schorzeń skóry jak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na przykład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trądzika oraz łuszczycy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. Pierwsze zmiany na skórze palaczek zostały opisane już w 1856 roku. </a:t>
            </a:r>
            <a:r>
              <a:rPr b="1" lang="pl-PL" sz="1600" spc="-1" strike="noStrike">
                <a:solidFill>
                  <a:srgbClr val="ffff66"/>
                </a:solidFill>
                <a:latin typeface="Tahoma"/>
              </a:rPr>
              <a:t>Dzisiaj dermatolodzy mówią o</a:t>
            </a:r>
            <a:r>
              <a:rPr b="1" lang="pl-PL" sz="1600" spc="-1" strike="noStrike">
                <a:solidFill>
                  <a:srgbClr val="ff3300"/>
                </a:solidFill>
                <a:latin typeface="Tahoma"/>
              </a:rPr>
              <a:t> „tytoniowej twarzy”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 – łatwej do rozpoznania na pierwszy rzut oka.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alenie wzmaga również niekorzystne działanie na skórę promieni słonecznych, bo zwiększa się wytwarzanie wolnych rodników                  i suchość skóry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51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48:27Z</dcterms:created>
  <dc:creator>Alicja Kołodziejczyk</dc:creator>
  <dc:description/>
  <dc:language>en-US</dc:language>
  <cp:lastModifiedBy>Fulara</cp:lastModifiedBy>
  <dcterms:modified xsi:type="dcterms:W3CDTF">2006-04-04T16:50:58Z</dcterms:modified>
  <cp:revision>101</cp:revision>
  <dc:subject/>
  <dc:title>Nie dla NIKOTYNY</dc:title>
</cp:coreProperties>
</file>